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1.jpeg" ContentType="image/jpeg"/>
  <Override PartName="/ppt/media/image62.png" ContentType="image/png"/>
  <Override PartName="/ppt/media/image7.jpeg" ContentType="image/jpeg"/>
  <Override PartName="/ppt/media/image64.jpeg" ContentType="image/jpeg"/>
  <Override PartName="/ppt/media/image38.jpeg" ContentType="image/jpeg"/>
  <Override PartName="/ppt/media/image28.jpeg" ContentType="image/jpeg"/>
  <Override PartName="/ppt/media/image11.jpeg" ContentType="image/jpeg"/>
  <Override PartName="/ppt/media/image24.png" ContentType="image/png"/>
  <Override PartName="/ppt/media/image5.jpeg" ContentType="image/jpeg"/>
  <Override PartName="/ppt/media/image50.png" ContentType="image/png"/>
  <Override PartName="/ppt/media/image26.jpeg" ContentType="image/jpeg"/>
  <Override PartName="/ppt/media/image2.jpeg" ContentType="image/jpeg"/>
  <Override PartName="/ppt/media/image23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41.jpeg" ContentType="image/jpeg"/>
  <Override PartName="/ppt/media/image14.jpeg" ContentType="image/jpeg"/>
  <Override PartName="/ppt/media/image20.jpeg" ContentType="image/jpeg"/>
  <Override PartName="/ppt/media/image15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9.jpeg" ContentType="image/jpeg"/>
  <Override PartName="/ppt/media/image27.jpeg" ContentType="image/jpeg"/>
  <Override PartName="/ppt/media/image36.jpeg" ContentType="image/jpeg"/>
  <Override PartName="/ppt/media/image10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png" ContentType="image/pn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60ED-09E6-4B1C-BEF0-9D6F5DD61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09BB-764C-4762-BDB2-FB4070AD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853A-527D-4517-811E-4EDA7134B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AC91-61F0-43B8-A1CD-16EF60409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E0BC-818A-4EF2-8ED3-49615BBAF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B30E-B735-4E98-8D3B-F9C79654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812D-C511-4D55-90E7-41B8CD43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4661-5ACB-43CE-B1B1-549F4B20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4176-ACFC-4F75-A762-1CD0D4EB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CFB2-4A6B-48AC-87CA-5FE0FE91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5EDC-37EE-4A4E-8C9C-F9343A24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5521-1D47-4982-B36D-87106EBD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6CD8-039A-4C92-841E-8038C64A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6CA0-05EC-4BE5-957B-F91EC8B7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4327-FA54-4CCB-8A1C-F283F06B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AE25-6EAC-4CAE-B5B1-DB4B50383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36BF-4FBD-417A-87F5-FA428C25F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B2C4-F3FA-4E57-B52D-9CF16C4C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8C10-34F0-4CA4-AB03-E0172716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CBCD-5EEC-4D5C-BA51-EA884F63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548B-5078-4F09-95E1-7D126747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C371-B556-4FCB-AE6B-B2DB7776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F415-4F84-4622-A375-7AF7329C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A8F9-1192-46D3-9A4F-F96B1BFE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DE2E-1035-4FE0-8A62-424AC78C97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7EB0-0D68-45D5-B950-7EB5D569D7E3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F:/wiki/1935" TargetMode="External"/><Relationship Id="rId2" Type="http://schemas.openxmlformats.org/officeDocument/2006/relationships/hyperlink" Target="file:///F:/wiki/%25D0%25A1%25D0%25BE%25D0%25B1%25D0%25BE%25D0%25BB%25D1%258C" TargetMode="External"/><Relationship Id="rId3" Type="http://schemas.openxmlformats.org/officeDocument/2006/relationships/hyperlink" Target="file:///F:/wiki/%25D0%2590%25D0%25BC%25D1%2583%25D1%2580%25D1%2581%25D0%25BA%25D0%25B8%25D0%25B9_%25D1%2582%25D0%25B8%25D0%25B3%25D1%2580" TargetMode="External"/><Relationship Id="rId4" Type="http://schemas.openxmlformats.org/officeDocument/2006/relationships/hyperlink" Target="file:///F:/wiki/%25D0%2594%25D0%25B0%25D0%25BB%25D1%258C%25D0%25BD%25D0%25B8%25D0%25B9_%25D0%2592%25D0%25BE%25D1%2581%25D1%2582%25D0%25BE%25D0%25BA" TargetMode="External"/><Relationship Id="rId5" Type="http://schemas.openxmlformats.org/officeDocument/2006/relationships/hyperlink" Target="file:///F:/wiki/%25D0%25AE%25D0%259D%25D0%2595%25D0%25A1%25D0%259A%25D0%259E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F:/wiki/%25D0%2591%25D0%25B0%25D1%2588%25D0%25BC%25D0%25B0%25D1%2587%25D0%25BE%25D0%25BA_%25D0%25BA%25D1%2580%25D1%2583%25D0%25BF%25D0%25BD%25D0%25BE%25D1%2586%25D0%25B2%25D0%25B5%25D1%2582%25D0%25BA%25D0%25BE%25D0%25B2%25D1%258B%25D0%25B9" TargetMode="External"/><Relationship Id="rId2" Type="http://schemas.openxmlformats.org/officeDocument/2006/relationships/hyperlink" Target="file:///F:/wiki/%25D0%2591%25D0%25B0%25D1%2588%25D0%25BC%25D0%25B0%25D1%2587%25D0%25BE%25D0%25BA_%25D0%25BD%25D0%25B0%25D1%2581%25D1%2582%25D0%25BE%25D1%258F%25D1%2589%25D0%25B8%25D0%25B9" TargetMode="External"/><Relationship Id="rId3" Type="http://schemas.openxmlformats.org/officeDocument/2006/relationships/hyperlink" Target="file:///F:/w/index.php%3Ftitle=%25D0%2591%25D0%25BE%25D1%2580%25D0%25BE%25D0%25B4%25D0%25B0%25D1%2582%25D0%25BA%25D0%25B0_%25D1%258F%25D0%25BF%25D0%25BE%25D0%25BD%25D1%2581%25D0%25BA%25D0%25B0%25D1%258F&amp;action=edit&amp;redlink=1" TargetMode="External"/><Relationship Id="rId4" Type="http://schemas.openxmlformats.org/officeDocument/2006/relationships/hyperlink" Target="file:///F:/w/index.php%3Ftitle=%25D0%2591%25D0%25BE%25D1%2580%25D0%25B5%25D1%2586_%25D1%2581%25D0%25B8%25D1%2585%25D0%25BE%25D1%2582%25D0%25B8%25D0%25BD%25D1%2581%25D0%25BA%25D0%25B8%25D0%25B9&amp;action=edit&amp;redlink=1" TargetMode="External"/><Relationship Id="rId5" Type="http://schemas.openxmlformats.org/officeDocument/2006/relationships/hyperlink" Target="file:///F:/w/index.php%3Ftitle=%25D0%2593%25D1%2580%25D1%2583%25D1%2588%25D0%25B0_%25D1%2583%25D1%2581%25D1%2581%25D1%2583%25D1%2580%25D0%25B8%25D0%25B9%25D1%2581%25D0%25BA%25D0%25B0%25D1%258F&amp;action=edit&amp;redlink=1" TargetMode="External"/><Relationship Id="rId6" Type="http://schemas.openxmlformats.org/officeDocument/2006/relationships/hyperlink" Target="file:///F:/wiki/%25D0%2594%25D0%25B8%25D0%25BE%25D1%2581%25D0%25BA%25D0%25BE%25D1%2580%25D0%25B5%25D1%258F_%25D1%258F%25D0%25BF%25D0%25BE%25D0%25BD%25D1%2581%25D0%25BA%25D0%25B0%25D1%258F" TargetMode="External"/><Relationship Id="rId7" Type="http://schemas.openxmlformats.org/officeDocument/2006/relationships/hyperlink" Target="file:///F:/w/index.php%3Ftitle=%25D0%2597%25D0%25B0%25D0%25BC%25D0%25B0%25D0%25BD%25D0%25B8%25D1%2585%25D0%25B0_%25D0%25B2%25D1%258B%25D1%2581%25D0%25BE%25D0%25BA%25D0%25B0%25D1%258F&amp;action=edit&amp;redlink=1" TargetMode="External"/><Relationship Id="rId8" Type="http://schemas.openxmlformats.org/officeDocument/2006/relationships/hyperlink" Target="file:///F:/w/index.php%3Ftitle=%25D0%259A%25D0%25B0%25D1%2581%25D0%25B0%25D1%2582%25D0%25B8%25D0%25BA_%25D0%25BC%25D0%25B5%25D1%2587%25D0%25B5%25D0%25B2%25D0%25B8%25D0%25B4%25D0%25BD%25D1%258B%25D0%25B9&amp;action=edit&amp;redlink=1" TargetMode="External"/><Relationship Id="rId9" Type="http://schemas.openxmlformats.org/officeDocument/2006/relationships/hyperlink" Target="file:///F:/w/index.php%3Ftitle=%25D0%259A%25D0%25BE%25D1%2582%25D0%25BE%25D0%25B2%25D0%25BD%25D0%25B8%25D0%25BA_%25D0%25BC%25D0%25B0%25D0%25BD%25D1%2587%25D1%258C%25D0%25B6%25D1%2583%25D1%2580%25D1%2581%25D0%25BA%25D0%25B8%25D0%25B9&amp;action=edit&amp;redlink=1" TargetMode="External"/><Relationship Id="rId10" Type="http://schemas.openxmlformats.org/officeDocument/2006/relationships/hyperlink" Target="file:///F:/w/index.php%3Ftitle=%25D0%259A%25D1%2583%25D0%25B1%25D1%258B%25D1%2588%25D0%25BA%25D0%25B0_%25D0%25BC%25D0%25B0%25D0%25BB%25D0%25B0%25D1%258F&amp;action=edit&amp;redlink=1" TargetMode="External"/><Relationship Id="rId11" Type="http://schemas.openxmlformats.org/officeDocument/2006/relationships/hyperlink" Target="file:///F:/w/index.php%3Ftitle=%25D0%259A%25D1%2583%25D1%2580%25D0%25B8%25D0%25BB%25D1%258C%25D1%2581%25D0%25BA%25D0%25B8%25D0%25B9_%25D1%2587%25D0%25B0%25D0%25B9_%25D0%25BC%25D0%25B0%25D0%25BD%25D1%258C%25D1%2587%25D0%25B6%25D1%2583%25D1%2580%25D1%2581%25D0%25BA%25D0%25B8%25D0%25B9&amp;action=edit&amp;redlink=1" TargetMode="External"/><Relationship Id="rId12" Type="http://schemas.openxmlformats.org/officeDocument/2006/relationships/hyperlink" Target="file:///F:/w/index.php%3Ftitle=%25D0%259B%25D0%25B8%25D0%25BB%25D0%25B8%25D1%258F_%25D0%25B4%25D0%25B0%25D1%2583%25D1%2580%25D1%2581%25D0%25BA%25D0%25B0%25D1%258F&amp;action=edit&amp;redlink=1" TargetMode="External"/><Relationship Id="rId13" Type="http://schemas.openxmlformats.org/officeDocument/2006/relationships/hyperlink" Target="file:///F:/w/index.php%3Ftitle=%25D0%259B%25D0%25B8%25D0%25BB%25D0%25B8%25D1%258F_%25D0%25B4%25D0%25B2%25D1%2583%25D1%2580%25D1%258F%25D0%25B4%25D0%25BD%25D0%25B0%25D1%258F&amp;action=edit&amp;redlink=1" TargetMode="External"/><Relationship Id="rId14" Type="http://schemas.openxmlformats.org/officeDocument/2006/relationships/hyperlink" Target="file:///F:/wiki/%25D0%259B%25D0%25B8%25D0%25BC%25D0%25BE%25D0%25BD%25D0%25BD%25D0%25B8%25D0%25BA_%25D0%25BA%25D0%25B8%25D1%2582%25D0%25B0%25D0%25B9%25D1%2581%25D0%25BA%25D0%25B8%25D0%25B9" TargetMode="External"/><Relationship Id="rId15" Type="http://schemas.openxmlformats.org/officeDocument/2006/relationships/hyperlink" Target="file:///F:/wiki/%25D0%259B%25D0%25B8%25D1%2581%25D1%2582%25D0%25B2%25D0%25B5%25D0%25BD%25D0%25BD%25D0%25B8%25D1%2586%25D0%25B0_%25D0%25BE%25D0%25BB%25D1%258C%25D0%25B3%25D0%25B8%25D0%25BD%25D1%2581%25D0%25BA%25D0%25B0%25D1%258F" TargetMode="External"/><Relationship Id="rId16" Type="http://schemas.openxmlformats.org/officeDocument/2006/relationships/image" Target="../media/image16.jpeg"/><Relationship Id="rId17" Type="http://schemas.openxmlformats.org/officeDocument/2006/relationships/hyperlink" Target="http://www.flowersweb.info/images/interesting/karelia/karelia-12.jpg" TargetMode="External"/><Relationship Id="rId18" Type="http://schemas.openxmlformats.org/officeDocument/2006/relationships/image" Target="../media/image17.jpeg"/><Relationship Id="rId19" Type="http://schemas.openxmlformats.org/officeDocument/2006/relationships/image" Target="../media/image18.jpeg"/><Relationship Id="rId2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file:///F:/wiki/%25D0%2590%25D0%25BC%25D1%2583%25D1%2580%25D1%2581%25D0%25BA%25D0%25B8%25D0%25B9_%25D1%2582%25D0%25B8%25D0%25B3%25D1%2580" TargetMode="External"/><Relationship Id="rId3" Type="http://schemas.openxmlformats.org/officeDocument/2006/relationships/hyperlink" Target="file:///F:/wiki/%25D0%2593%25D0%25BE%25D1%2580%25D0%25B0%25D0%25BB" TargetMode="External"/><Relationship Id="rId4" Type="http://schemas.openxmlformats.org/officeDocument/2006/relationships/hyperlink" Target="file:///F:/wiki/%25D0%259B%25D0%25BE%25D1%2581%25D1%258C" TargetMode="External"/><Relationship Id="rId5" Type="http://schemas.openxmlformats.org/officeDocument/2006/relationships/hyperlink" Target="file:///F:/wiki/%25D0%259F%25D1%258F%25D1%2582%25D0%25BD%25D0%25B8%25D1%2581%25D1%2582%25D1%258B%25D0%25B9_%25D0%25BE%25D0%25BB%25D0%25B5%25D0%25BD%25D1%258C" TargetMode="External"/><Relationship Id="rId6" Type="http://schemas.openxmlformats.org/officeDocument/2006/relationships/hyperlink" Target="file:///F:/wiki/%25D0%2593%25D0%25B8%25D0%25BC%25D0%25B0%25D0%25BB%25D0%25B0%25D0%25B9%25D1%2581%25D0%25BA%25D0%25B8%25D0%25B9_%25D0%25BC%25D0%25B5%25D0%25B4%25D0%25B2%25D0%25B5%25D0%25B4%25D1%258C" TargetMode="External"/><Relationship Id="rId7" Type="http://schemas.openxmlformats.org/officeDocument/2006/relationships/hyperlink" Target="file:///F:/wiki/%25D0%2590%25D0%25B8%25D1%2581%25D1%2582_%25D1%2587%25D1%2591%25D1%2580%25D0%25BD%25D1%258B%25D0%25B9" TargetMode="External"/><Relationship Id="rId8" Type="http://schemas.openxmlformats.org/officeDocument/2006/relationships/hyperlink" Target="file:///F:/w/index.php%3Ftitle=%25D0%2591%25D0%25B5%25D0%25BA%25D0%25B0%25D1%2581_%25D1%258F%25D0%25BF%25D0%25BE%25D0%25BD%25D1%2581%25D0%25BA%25D0%25B8%25D0%25B9&amp;action=edit&amp;redlink=1" TargetMode="External"/><Relationship Id="rId9" Type="http://schemas.openxmlformats.org/officeDocument/2006/relationships/hyperlink" Target="http://ru.wikipedia.org/wiki/&#1060;&#1072;&#1081;&#1083;:Naemorhedus_goral.jpg" TargetMode="External"/><Relationship Id="rId10" Type="http://schemas.openxmlformats.org/officeDocument/2006/relationships/image" Target="../media/image20.jpeg"/><Relationship Id="rId11" Type="http://schemas.openxmlformats.org/officeDocument/2006/relationships/hyperlink" Target="http://ru.wikipedia.org/wiki/&#1060;&#1072;&#1081;&#1083;:Ursus_thibetanus_Phila.JPG" TargetMode="External"/><Relationship Id="rId12" Type="http://schemas.openxmlformats.org/officeDocument/2006/relationships/image" Target="../media/image21.jpeg"/><Relationship Id="rId13" Type="http://schemas.openxmlformats.org/officeDocument/2006/relationships/hyperlink" Target="http://ru.wikipedia.org/wiki/&#1060;&#1072;&#1081;&#1083;:Gallinago_gallinago_PA192659.jpg" TargetMode="External"/><Relationship Id="rId14" Type="http://schemas.openxmlformats.org/officeDocument/2006/relationships/image" Target="../media/image22.jpeg"/><Relationship Id="rId15" Type="http://schemas.openxmlformats.org/officeDocument/2006/relationships/image" Target="../media/image23.jpeg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F:/wiki/%25D0%259F%25D1%2580%25D0%25B8%25D0%25BC%25D0%25BE%25D1%2580%25D1%258C%25D0%25B5" TargetMode="External"/><Relationship Id="rId2" Type="http://schemas.openxmlformats.org/officeDocument/2006/relationships/hyperlink" Target="file:///F:/wiki/%25D0%259A%25D0%25B8%25D0%25B5%25D0%25B2%25D0%25BA%25D0%25B0_(%25D1%2580%25D0%25B5%25D0%25BA%25D0%25B0)" TargetMode="External"/><Relationship Id="rId3" Type="http://schemas.openxmlformats.org/officeDocument/2006/relationships/hyperlink" Target="file:///F:/wiki/%25D0%259B%25D0%25B0%25D0%25B7%25D0%25BE%25D0%25B2%25D1%2581%25D0%25BA%25D0%25B8%25D0%25B9_%25D1%2580%25D0%25B0%25D0%25B9%25D0%25BE%25D0%25BD" TargetMode="External"/><Relationship Id="rId4" Type="http://schemas.openxmlformats.org/officeDocument/2006/relationships/hyperlink" Target="file:///F:/wiki/%25D0%259F%25D1%2580%25D0%25B8%25D0%25BC%25D0%25BE%25D1%2580%25D1%2581%25D0%25BA%25D0%25B8%25D0%25B9_%25D0%25BA%25D1%2580%25D0%25B0%25D0%25B9" TargetMode="External"/><Relationship Id="rId5" Type="http://schemas.openxmlformats.org/officeDocument/2006/relationships/hyperlink" Target="file:///F:/wiki/%25D0%2597%25D0%25B0%25D0%25BA%25D0%25B0%25D0%25B7%25D0%25BD%25D0%25B8%25D0%25BA" TargetMode="External"/><Relationship Id="rId6" Type="http://schemas.openxmlformats.org/officeDocument/2006/relationships/hyperlink" Target="file:///F:/wiki/%25D0%259C%25D1%2583%25D1%2581%25D1%2581%25D0%25BE%25D0%25BD" TargetMode="External"/><Relationship Id="rId7" Type="http://schemas.openxmlformats.org/officeDocument/2006/relationships/hyperlink" Target="file:///F:/wiki/%25D0%25AF%25D0%25B3%25D0%25BE%25D0%25B4%25D0%25BD%25D1%258B%25D0%25B9_%25D1%2582%25D0%25B8%25D1%2581" TargetMode="External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F:/w/index.php%3Ftitle=%25D0%2590%25D0%25BC%25D1%2583%25D1%2580%25D1%2581%25D0%25BA%25D0%25B8%25D0%25B9_%25D0%25B3%25D0%25BE%25D1%2580%25D0%25B0%25D0%25BB&amp;action=edit&amp;redlink=1" TargetMode="External"/><Relationship Id="rId2" Type="http://schemas.openxmlformats.org/officeDocument/2006/relationships/hyperlink" Target="file:///F:/wiki/%25D0%2590%25D0%25BC%25D1%2583%25D1%2580%25D1%2581%25D0%25BA%25D0%25B8%25D0%25B9_%25D1%2582%25D0%25B8%25D0%25B3%25D1%2580" TargetMode="External"/><Relationship Id="rId3" Type="http://schemas.openxmlformats.org/officeDocument/2006/relationships/hyperlink" Target="file:///F:/w/index.php%3Ftitle=%25D0%2593%25D0%25B8%25D0%25B3%25D0%25B0%25D0%25BD%25D1%2582%25D1%2581%25D0%25BA%25D0%25B0%25D1%258F_%25D0%25B1%25D1%2583%25D1%2580%25D0%25BE%25D0%25B7%25D1%2583%25D0%25B1%25D0%25BA%25D0%25B0&amp;action=edit&amp;redlink=1" TargetMode="External"/><Relationship Id="rId4" Type="http://schemas.openxmlformats.org/officeDocument/2006/relationships/hyperlink" Target="file:///F:/wiki/%25D0%2594%25D0%25B0%25D0%25BB%25D1%258C%25D0%25BD%25D0%25B5%25D0%25B2%25D0%25BE%25D1%2581%25D1%2582%25D0%25BE%25D1%2587%25D0%25BD%25D1%258B%25D0%25B9_%25D0%25BB%25D0%25B5%25D0%25BE%25D0%25BF%25D0%25B0%25D1%2580%25D0%25B4" TargetMode="External"/><Relationship Id="rId5" Type="http://schemas.openxmlformats.org/officeDocument/2006/relationships/hyperlink" Target="file:///F:/w/index.php%3Ftitle=%25D0%259E%25D0%25B1%25D1%258B%25D0%25BA%25D0%25BD%25D0%25BE%25D0%25B2%25D0%25B5%25D0%25BD%25D0%25BD%25D1%258B%25D0%25B9_%25D0%25B4%25D0%25BB%25D0%25B8%25D0%25BD%25D0%25BD%25D0%25BE%25D0%25BA%25D1%2580%25D1%258B%25D0%25BB&amp;action=edit&amp;redlink=1" TargetMode="External"/><Relationship Id="rId6" Type="http://schemas.openxmlformats.org/officeDocument/2006/relationships/hyperlink" Target="file:///F:/w/index.php%3Ftitle=%25D0%25A3%25D1%2581%25D1%2581%25D1%2583%25D1%2580%25D0%25B8%25D0%25B9%25D1%2581%25D0%25BA%25D0%25B8%25D0%25B9_%25D0%25BF%25D1%258F%25D1%2582%25D0%25BD%25D0%25B8%25D1%2581%25D1%2582%25D1%258B%25D0%25B9_%25D0%25BE%25D0%25BB%25D0%25B5%25D0%25BD%25D1%258C&amp;action=edit&amp;redlink=1" TargetMode="External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F:/w/index.php%3Ftitle=%25D0%2594%25D0%25B0%25D0%25BB%25D1%258C%25D0%25BD%25D0%25B5%25D0%25B2%25D0%25BE%25D1%2581%25D1%2582%25D0%25BE%25D1%2587%25D0%25BD%25D1%258B%25D0%25B9_%25D0%25BA%25D1%2580%25D0%25BE%25D0%25BD%25D1%2588%25D0%25BD%25D0%25B5%25D0%25BF&amp;action=edit&amp;redlink=1" TargetMode="External"/><Relationship Id="rId2" Type="http://schemas.openxmlformats.org/officeDocument/2006/relationships/hyperlink" Target="file:///F:/wiki/%25D0%2594%25D0%25B0%25D1%2583%25D1%2580%25D1%2581%25D0%25BA%25D0%25B8%25D0%25B9_%25D0%25B6%25D1%2583%25D1%2580%25D0%25B0%25D0%25B2%25D0%25BB%25D1%258C" TargetMode="External"/><Relationship Id="rId3" Type="http://schemas.openxmlformats.org/officeDocument/2006/relationships/hyperlink" Target="file:///F:/wiki/%25D0%2594%25D1%2580%25D0%25BE%25D1%2584%25D0%25B0" TargetMode="External"/><Relationship Id="rId4" Type="http://schemas.openxmlformats.org/officeDocument/2006/relationships/hyperlink" Target="file:///F:/wiki/%25D0%2595%25D0%25B3%25D0%25B8%25D0%25BF%25D0%25B5%25D1%2582%25D1%2581%25D0%25BA%25D0%25B0%25D1%258F_%25D1%2586%25D0%25B0%25D0%25BF%25D0%25BB%25D1%258F" TargetMode="External"/><Relationship Id="rId5" Type="http://schemas.openxmlformats.org/officeDocument/2006/relationships/hyperlink" Target="file:///F:/w/index.php%3Ftitle=%25D0%2596%25D0%25B5%25D0%25BB%25D1%2582%25D0%25BE%25D0%25BA%25D0%25BB%25D1%258E%25D0%25B2%25D0%25B0%25D1%258F_%25D1%2586%25D0%25B0%25D0%25BF%25D0%25BB%25D1%258F&amp;action=edit&amp;redlink=1" TargetMode="External"/><Relationship Id="rId6" Type="http://schemas.openxmlformats.org/officeDocument/2006/relationships/hyperlink" Target="file:///F:/wiki/%25D0%259A%25D0%25BB%25D0%25BE%25D0%25BA%25D1%2582%25D1%2583%25D0%25BD" TargetMode="External"/><Relationship Id="rId7" Type="http://schemas.openxmlformats.org/officeDocument/2006/relationships/hyperlink" Target="file:///F:/wiki/%25D0%259A%25D0%25BE%25D0%25BB%25D0%25BF%25D0%25B8%25D1%2586%25D0%25B0" TargetMode="External"/><Relationship Id="rId8" Type="http://schemas.openxmlformats.org/officeDocument/2006/relationships/hyperlink" Target="file:///F:/wiki/%25D0%259A%25D1%2580%25D0%25B0%25D1%2581%25D0%25BD%25D0%25BE%25D0%25BD%25D0%25BE%25D0%25B3%25D0%25B8%25D0%25B9_%25D0%25B8%25D0%25B1%25D0%25B8%25D1%2581" TargetMode="External"/><Relationship Id="rId9" Type="http://schemas.openxmlformats.org/officeDocument/2006/relationships/hyperlink" Target="file:///F:/wiki/%25D0%259A%25D1%2580%25D0%25B5%25D1%2587%25D0%25B5%25D1%2582" TargetMode="External"/><Relationship Id="rId10" Type="http://schemas.openxmlformats.org/officeDocument/2006/relationships/image" Target="../media/image26.jpeg"/><Relationship Id="rId11" Type="http://schemas.openxmlformats.org/officeDocument/2006/relationships/hyperlink" Target="http://ru.wikipedia.org/wiki/&#1060;&#1072;&#1081;&#1083;:Curlew_-_natures_pics.jpg" TargetMode="External"/><Relationship Id="rId12" Type="http://schemas.openxmlformats.org/officeDocument/2006/relationships/image" Target="../media/image27.jpeg"/><Relationship Id="rId13" Type="http://schemas.openxmlformats.org/officeDocument/2006/relationships/hyperlink" Target="http://ru.wikipedia.org/wiki/&#1060;&#1072;&#1081;&#1083;:Loeffler.jpg" TargetMode="External"/><Relationship Id="rId14" Type="http://schemas.openxmlformats.org/officeDocument/2006/relationships/image" Target="../media/image11.jpeg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F:/wiki/%25D0%259C%25D0%25B0%25D0%25BB%25D0%25B0%25D1%258F_%25D0%25BA%25D1%2580%25D0%25B0%25D1%2587%25D0%25BA%25D0%25B0" TargetMode="External"/><Relationship Id="rId2" Type="http://schemas.openxmlformats.org/officeDocument/2006/relationships/hyperlink" Target="file:///F:/wiki/%25D0%259C%25D0%25B0%25D0%25BB%25D1%258B%25D0%25B9_%25D0%25BB%25D0%25B5%25D0%25B1%25D0%25B5%25D0%25B4%25D1%258C" TargetMode="External"/><Relationship Id="rId3" Type="http://schemas.openxmlformats.org/officeDocument/2006/relationships/hyperlink" Target="file:///F:/wiki/%25D0%259B%25D0%25B5%25D0%25B1%25D0%25B5%25D0%25B4%25D1%258C" TargetMode="External"/><Relationship Id="rId4" Type="http://schemas.openxmlformats.org/officeDocument/2006/relationships/hyperlink" Target="file:///F:/wiki/%25D0%259D%25D1%258B%25D1%2580%25D0%25BE%25D0%25BA_%25D0%2591%25D1%258D%25D1%2580%25D0%25B0" TargetMode="External"/><Relationship Id="rId5" Type="http://schemas.openxmlformats.org/officeDocument/2006/relationships/hyperlink" Target="file:///F:/wiki/%25D0%259E%25D0%25B1%25D1%258B%25D0%25BA%25D0%25BD%25D0%25BE%25D0%25B2%25D0%25B5%25D0%25BD%25D0%25BD%25D1%258B%25D0%25B9_%25D1%2584%25D0%25BB%25D0%25B0%25D0%25BC%25D0%25B8%25D0%25BD%25D0%25B3%25D0%25BE" TargetMode="External"/><Relationship Id="rId6" Type="http://schemas.openxmlformats.org/officeDocument/2006/relationships/hyperlink" Target="file:///F:/wiki/%25D0%259E%25D1%2580%25D0%25BB%25D0%25B0%25D0%25BD-%25D0%25B1%25D0%25B5%25D0%25BB%25D0%25BE%25D1%2585%25D0%25B2%25D0%25BE%25D1%2581%25D1%2582" TargetMode="External"/><Relationship Id="rId7" Type="http://schemas.openxmlformats.org/officeDocument/2006/relationships/hyperlink" Target="file:///F:/wiki/%25D0%259E%25D1%2585%25D0%25BE%25D1%2582%25D1%2581%25D0%25BA%25D0%25B8%25D0%25B9_%25D1%2583%25D0%25BB%25D0%25B8%25D1%2582" TargetMode="External"/><Relationship Id="rId8" Type="http://schemas.openxmlformats.org/officeDocument/2006/relationships/hyperlink" Target="file:///F:/wiki/%25D0%259F%25D0%25B8%25D1%2581%25D0%25BA%25D1%2583%25D0%25BB%25D1%258C%25D0%25BA%25D0%25B0" TargetMode="External"/><Relationship Id="rId9" Type="http://schemas.openxmlformats.org/officeDocument/2006/relationships/hyperlink" Target="file:///F:/wiki/%25D0%25A0%25D0%25BE%25D0%25B3%25D0%25B0%25D1%2582%25D0%25B0%25D1%258F_%25D0%25BA%25D0%25B0%25D0%25BC%25D1%258B%25D1%2588%25D0%25BD%25D0%25B8%25D1%2586%25D0%25B0" TargetMode="External"/><Relationship Id="rId10" Type="http://schemas.openxmlformats.org/officeDocument/2006/relationships/hyperlink" Target="file:///F:/wiki/%25D0%25A0%25D1%258B%25D0%25B1%25D0%25BD%25D1%258B%25D0%25B9_%25D1%2584%25D0%25B8%25D0%25BB%25D0%25B8%25D0%25BD" TargetMode="External"/><Relationship Id="rId11" Type="http://schemas.openxmlformats.org/officeDocument/2006/relationships/hyperlink" Target="file:///F:/wiki/%25D0%25A1%25D0%25B0%25D0%25BF%25D1%2581%25D0%25B0%25D0%25BD" TargetMode="External"/><Relationship Id="rId12" Type="http://schemas.openxmlformats.org/officeDocument/2006/relationships/image" Target="../media/image28.jpeg"/><Relationship Id="rId13" Type="http://schemas.openxmlformats.org/officeDocument/2006/relationships/image" Target="../media/image29.jpeg"/><Relationship Id="rId14" Type="http://schemas.openxmlformats.org/officeDocument/2006/relationships/image" Target="../media/image30.jpeg"/><Relationship Id="rId15" Type="http://schemas.openxmlformats.org/officeDocument/2006/relationships/hyperlink" Target="http://ru.wikipedia.org/wiki/&#1060;&#1072;&#1081;&#1083;:Qtqy.jpg" TargetMode="External"/><Relationship Id="rId16" Type="http://schemas.openxmlformats.org/officeDocument/2006/relationships/image" Target="../media/image31.jpeg"/><Relationship Id="rId17" Type="http://schemas.openxmlformats.org/officeDocument/2006/relationships/hyperlink" Target="http://ru.wikipedia.org/wiki/&#1060;&#1072;&#1081;&#1083;:Seeadler-flug.jpg" TargetMode="External"/><Relationship Id="rId18" Type="http://schemas.openxmlformats.org/officeDocument/2006/relationships/image" Target="../media/image32.jpeg"/><Relationship Id="rId19" Type="http://schemas.openxmlformats.org/officeDocument/2006/relationships/hyperlink" Target="http://ru.wikipedia.org/wiki/&#1060;&#1072;&#1081;&#1083;:Watercock.jpg" TargetMode="External"/><Relationship Id="rId20" Type="http://schemas.openxmlformats.org/officeDocument/2006/relationships/image" Target="../media/image33.jpeg"/><Relationship Id="rId21" Type="http://schemas.openxmlformats.org/officeDocument/2006/relationships/hyperlink" Target="http://ru.wikipedia.org/wiki/&#1060;&#1072;&#1081;&#1083;:Ente_unbekannt_1.jpg" TargetMode="External"/><Relationship Id="rId22" Type="http://schemas.openxmlformats.org/officeDocument/2006/relationships/image" Target="../media/image34.jpeg"/><Relationship Id="rId2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F:/wiki/%25D0%259A%25D0%25B0%25D0%25BC%25D1%2587%25D0%25B0%25D1%2582%25D0%25BA%25D0%25B0" TargetMode="External"/><Relationship Id="rId2" Type="http://schemas.openxmlformats.org/officeDocument/2006/relationships/hyperlink" Target="file:///F:/wiki/%25D0%25A5%25D0%25BE%25D0%25BA%25D0%25BA%25D0%25B0%25D0%25B9%25D0%25B4%25D0%25BE" TargetMode="External"/><Relationship Id="rId3" Type="http://schemas.openxmlformats.org/officeDocument/2006/relationships/hyperlink" Target="file:///F:/wiki/%25D0%259E%25D1%2585%25D0%25BE%25D1%2582%25D1%2581%25D0%25BA%25D0%25BE%25D0%25B5_%25D0%25BC%25D0%25BE%25D1%2580%25D0%25B5" TargetMode="External"/><Relationship Id="rId4" Type="http://schemas.openxmlformats.org/officeDocument/2006/relationships/hyperlink" Target="file:///F:/wiki/%25D0%25A2%25D0%25B8%25D1%2585%25D0%25B8%25D0%25B9_%25D0%25BE%25D0%25BA%25D0%25B5%25D0%25B0%25D0%25BD" TargetMode="External"/><Relationship Id="rId5" Type="http://schemas.openxmlformats.org/officeDocument/2006/relationships/hyperlink" Target="file:///F:/wiki/%25D0%25A0%25D0%25BE%25D1%2581%25D1%2581%25D0%25B8%25D1%258F" TargetMode="External"/><Relationship Id="rId6" Type="http://schemas.openxmlformats.org/officeDocument/2006/relationships/hyperlink" Target="file:///F:/wiki/%25D0%25A1%25D0%25B0%25D1%2585%25D0%25B0%25D0%25BB%25D0%25B8%25D0%25BD%25D1%2581%25D0%25BA%25D0%25B0%25D1%258F_%25D0%25BE%25D0%25B1%25D0%25BB%25D0%25B0%25D1%2581%25D1%2582%25D1%258C" TargetMode="External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F:/wiki/%25D0%259E%25D1%2581%25D1%2582%25D1%2580%25D0%25BE%25D0%25B2%25D0%25BD%25D0%25B0%25D1%258F_%25D0%25B4%25D1%2583%25D0%25B3%25D0%25B0" TargetMode="External"/><Relationship Id="rId2" Type="http://schemas.openxmlformats.org/officeDocument/2006/relationships/hyperlink" Target="file:///F:/wiki/%25D0%259E%25D1%2585%25D0%25BE%25D1%2582%25D1%2581%25D0%25BA%25D0%25B0%25D1%258F_%25D0%25BF%25D0%25BB%25D0%25B8%25D1%2582%25D0%25B0" TargetMode="External"/><Relationship Id="rId3" Type="http://schemas.openxmlformats.org/officeDocument/2006/relationships/hyperlink" Target="file:///F:/wiki/%25D0%2597%25D0%25BE%25D0%25BD%25D0%25B0_%25D1%2581%25D1%2583%25D0%25B1%25D0%25B4%25D1%2583%25D0%25BA%25D1%2586%25D0%25B8%25D0%25B8" TargetMode="External"/><Relationship Id="rId4" Type="http://schemas.openxmlformats.org/officeDocument/2006/relationships/hyperlink" Target="file:///F:/wiki/%25D0%25A2%25D0%25B8%25D1%2585%25D0%25BE%25D0%25BE%25D0%25BA%25D0%25B5%25D0%25B0%25D0%25BD%25D1%2581%25D0%25BA%25D0%25B0%25D1%258F_%25D0%25BF%25D0%25BB%25D0%25B8%25D1%2582%25D0%25B0" TargetMode="External"/><Relationship Id="rId5" Type="http://schemas.openxmlformats.org/officeDocument/2006/relationships/hyperlink" Target="file:///F:/wiki/%25D0%259E%25D1%2581%25D1%2582%25D1%2580%25D0%25BE%25D0%25B2_%25D0%2590%25D1%2582%25D0%25BB%25D0%25B0%25D1%2581%25D0%25BE%25D0%25B2%25D0%25B0" TargetMode="External"/><Relationship Id="rId6" Type="http://schemas.openxmlformats.org/officeDocument/2006/relationships/hyperlink" Target="file:///F:/wiki/%25D0%2590%25D0%25BB%25D0%25B0%25D0%25B8%25D0%25B4" TargetMode="External"/><Relationship Id="rId7" Type="http://schemas.openxmlformats.org/officeDocument/2006/relationships/hyperlink" Target="file:///F:/wiki/%25D0%2592%25D1%2583%25D0%25BB%25D0%25BA%25D0%25B0%25D0%25BD_(%25D0%25B3%25D0%25B5%25D0%25BE%25D0%25BB%25D0%25BE%25D0%25B3%25D0%25B8%25D1%258F)" TargetMode="External"/><Relationship Id="rId8" Type="http://schemas.openxmlformats.org/officeDocument/2006/relationships/hyperlink" Target="file:///F:/w/index.php%3Ftitle=%25D0%259C%25D0%25B8%25D0%25BD%25D0%25B5%25D1%2580%25D0%25B0%25D0%25BB%25D1%258C%25D0%25BD%25D1%258B%25D0%25B5_%25D0%25B8%25D1%2581%25D1%2582%25D0%25BE%25D1%2587%25D0%25BD%25D0%25B8%25D0%25BA%25D0%25B8&amp;action=edit&amp;redlink=1" TargetMode="External"/><Relationship Id="rId9" Type="http://schemas.openxmlformats.org/officeDocument/2006/relationships/hyperlink" Target="file:///F:/wiki/%25D0%25A1%25D0%25B5%25D0%25B9%25D1%2581%25D0%25BC%25D0%25B8%25D1%2587%25D0%25BD%25D0%25BE%25D1%2581%25D1%2582%25D1%258C" TargetMode="External"/><Relationship Id="rId10" Type="http://schemas.openxmlformats.org/officeDocument/2006/relationships/hyperlink" Target="file:///F:/wiki/%25D0%25A2%25D0%25B8%25D1%2585%25D0%25BE%25D0%25BE%25D0%25BA%25D0%25B5%25D0%25B0%25D0%25BD%25D1%2581%25D0%25BA%25D0%25BE%25D0%25B5_%25D0%25B2%25D1%2583%25D0%25BB%25D0%25BA%25D0%25B0%25D0%25BD%25D0%25B8%25D1%2587%25D0%25B5%25D1%2581%25D0%25BA%25D0%25BE%25D0%25B5_%25D0%25BE%25D0%25B3%25D0%25BD%25D0%25B5%25D0%25BD%25D0%25BD%25D0%25BE%25D0%25B5_%25D0%25BA%25D0%25BE%25D0%25BB%25D1%258C%25D1%2586%25D0%25BE" TargetMode="External"/><Relationship Id="rId11" Type="http://schemas.openxmlformats.org/officeDocument/2006/relationships/hyperlink" Target="file:///F:/wiki/%25D0%25A6%25D1%2583%25D0%25BD%25D0%25B0%25D0%25BC%25D0%25B8" TargetMode="External"/><Relationship Id="rId12" Type="http://schemas.openxmlformats.org/officeDocument/2006/relationships/image" Target="../media/image35.jpe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F:/wiki/%25D0%259B%25D0%25B8%25D1%2581%25D0%25B0" TargetMode="External"/><Relationship Id="rId2" Type="http://schemas.openxmlformats.org/officeDocument/2006/relationships/hyperlink" Target="file:///F:/wiki/%25D0%2593%25D1%2580%25D1%258B%25D0%25B7%25D1%2583%25D0%25BD%25D1%258B" TargetMode="External"/><Relationship Id="rId3" Type="http://schemas.openxmlformats.org/officeDocument/2006/relationships/hyperlink" Target="file:///F:/wiki/%25D0%25A0%25D0%25B6%25D0%25B0%25D0%25BD%25D0%25BA%25D0%25BE%25D0%25BE%25D0%25B1%25D1%2580%25D0%25B0%25D0%25B7%25D0%25BD%25D1%258B%25D0%25B5" TargetMode="External"/><Relationship Id="rId4" Type="http://schemas.openxmlformats.org/officeDocument/2006/relationships/hyperlink" Target="file:///F:/wiki/%25D0%25A7%25D0%25B0%25D0%25B9%25D0%25BA%25D0%25B0" TargetMode="External"/><Relationship Id="rId5" Type="http://schemas.openxmlformats.org/officeDocument/2006/relationships/hyperlink" Target="file:///F:/wiki/%25D0%25A3%25D1%2582%25D0%25B8%25D0%25BD%25D1%258B%25D0%25B5" TargetMode="External"/><Relationship Id="rId6" Type="http://schemas.openxmlformats.org/officeDocument/2006/relationships/hyperlink" Target="file:///F:/wiki/%25D0%2591%25D0%25B0%25D0%25BA%25D0%25BB%25D0%25B0%25D0%25BD%25D1%258B" TargetMode="External"/><Relationship Id="rId7" Type="http://schemas.openxmlformats.org/officeDocument/2006/relationships/hyperlink" Target="file:///F:/wiki/%25D0%2591%25D1%2583%25D1%2580%25D0%25B5%25D0%25B2%25D0%25B5%25D1%2581%25D1%2582%25D0%25BD%25D0%25B8%25D0%25BA%25D0%25B8" TargetMode="External"/><Relationship Id="rId8" Type="http://schemas.openxmlformats.org/officeDocument/2006/relationships/hyperlink" Target="file:///F:/wiki/%25D0%2590%25D0%25BB%25D1%258C%25D0%25B1%25D0%25B0%25D1%2582%25D1%2580%25D0%25BE%25D1%2581%25D1%258B" TargetMode="External"/><Relationship Id="rId9" Type="http://schemas.openxmlformats.org/officeDocument/2006/relationships/hyperlink" Target="file:///F:/wiki/%25D0%2592%25D0%25BE%25D1%2580%25D0%25BE%25D0%25B1%25D1%258C%25D0%25B8%25D0%25BD%25D1%258B%25D0%25B5" TargetMode="External"/><Relationship Id="rId10" Type="http://schemas.openxmlformats.org/officeDocument/2006/relationships/hyperlink" Target="file:///F:/wiki/%25D0%25A1%25D0%25BE%25D0%25B2%25D1%258B" TargetMode="External"/><Relationship Id="rId11" Type="http://schemas.openxmlformats.org/officeDocument/2006/relationships/hyperlink" Target="file:///F:/wiki/%25D0%25A1%25D0%25BE%25D0%25BA%25D0%25BE%25D0%25BB%25D0%25BE%25D0%25BE%25D0%25B1%25D1%2580%25D0%25B0%25D0%25B7%25D0%25BD%25D1%258B%25D0%25B5" TargetMode="External"/><Relationship Id="rId12" Type="http://schemas.openxmlformats.org/officeDocument/2006/relationships/hyperlink" Target="file:///F:/wiki/%25D0%259F%25D1%2582%25D0%25B8%25D1%2587%25D0%25B8%25D0%25B9_%25D0%25B1%25D0%25B0%25D0%25B7%25D0%25B0%25D1%2580" TargetMode="External"/><Relationship Id="rId13" Type="http://schemas.openxmlformats.org/officeDocument/2006/relationships/hyperlink" Target="file:///F:/wiki/%25D0%259D%25D0%25B5%25D1%2580%25D0%25BF%25D0%25B0" TargetMode="External"/><Relationship Id="rId14" Type="http://schemas.openxmlformats.org/officeDocument/2006/relationships/hyperlink" Target="file:///F:/wiki/%25D0%259A%25D0%25B0%25D0%25BB%25D0%25B0%25D0%25BD%25D1%258B" TargetMode="External"/><Relationship Id="rId15" Type="http://schemas.openxmlformats.org/officeDocument/2006/relationships/hyperlink" Target="file:///F:/wiki/%25D0%259A%25D0%25BE%25D1%2581%25D0%25B0%25D1%2582%25D0%25BA%25D0%25B0_(%25D0%25BC%25D0%25BB%25D0%25B5%25D0%25BA%25D0%25BE%25D0%25BF%25D0%25B8%25D1%2582%25D0%25B0%25D1%258E%25D1%2589%25D0%25B5%25D0%25B5)" TargetMode="External"/><Relationship Id="rId16" Type="http://schemas.openxmlformats.org/officeDocument/2006/relationships/hyperlink" Target="file:///F:/wiki/%25D0%25A1%25D0%25B8%25D0%25B2%25D1%2583%25D1%2587" TargetMode="External"/><Relationship Id="rId17" Type="http://schemas.openxmlformats.org/officeDocument/2006/relationships/hyperlink" Target="file:///F:/wiki/%25D0%25A0%25D1%258B%25D0%25B1%25D1%258B" TargetMode="External"/><Relationship Id="rId18" Type="http://schemas.openxmlformats.org/officeDocument/2006/relationships/hyperlink" Target="file:///F:/wiki/%25D0%259A%25D1%2580%25D0%25B0%25D0%25B1" TargetMode="External"/><Relationship Id="rId19" Type="http://schemas.openxmlformats.org/officeDocument/2006/relationships/hyperlink" Target="file:///F:/wiki/%25D0%259C%25D0%25BE%25D0%25BB%25D0%25BB%25D1%258E%25D1%2581%25D0%25BA" TargetMode="External"/><Relationship Id="rId20" Type="http://schemas.openxmlformats.org/officeDocument/2006/relationships/hyperlink" Target="file:///F:/wiki/%25D0%259A%25D0%25B0%25D0%25BB%25D1%258C%25D0%25BC%25D0%25B0%25D1%2580" TargetMode="External"/><Relationship Id="rId21" Type="http://schemas.openxmlformats.org/officeDocument/2006/relationships/hyperlink" Target="file:///F:/wiki/%25D0%25A0%25D0%25B0%25D0%25BA%25D0%25BE%25D0%25BE%25D0%25B1%25D1%2580%25D0%25B0%25D0%25B7%25D0%25BD%25D1%258B%25D0%25B5" TargetMode="External"/><Relationship Id="rId22" Type="http://schemas.openxmlformats.org/officeDocument/2006/relationships/hyperlink" Target="file:///F:/wiki/%25D0%25A2%25D1%2580%25D0%25B5%25D0%25BF%25D0%25B0%25D0%25BD%25D0%25B3" TargetMode="External"/><Relationship Id="rId23" Type="http://schemas.openxmlformats.org/officeDocument/2006/relationships/hyperlink" Target="file:///F:/wiki/%25D0%259A%25D1%2583%25D0%25BA%25D1%2583%25D0%25BC%25D0%25B0%25D1%2580%25D0%25B8%25D1%258F" TargetMode="External"/><Relationship Id="rId24" Type="http://schemas.openxmlformats.org/officeDocument/2006/relationships/hyperlink" Target="file:///F:/wiki/%25D0%259C%25D0%25BE%25D1%2580%25D1%2581%25D0%25BA%25D0%25B8%25D0%25B5_%25D0%25B5%25D0%25B6%25D0%25B8" TargetMode="External"/><Relationship Id="rId25" Type="http://schemas.openxmlformats.org/officeDocument/2006/relationships/hyperlink" Target="file:///F:/wiki/%25D0%259C%25D0%25BE%25D1%2580%25D1%2581%25D0%25BA%25D0%25B0%25D1%258F_%25D0%25BA%25D0%25B0%25D0%25BF%25D1%2583%25D1%2581%25D1%2582%25D0%25B0" TargetMode="External"/><Relationship Id="rId26" Type="http://schemas.openxmlformats.org/officeDocument/2006/relationships/hyperlink" Target="file:///F:/wiki/%25D0%259A%25D0%25B8%25D1%2582%25D0%25BE%25D0%25BE%25D0%25B1%25D1%2580%25D0%25B0%25D0%25B7%25D0%25BD%25D1%258B%25D0%25B5" TargetMode="External"/><Relationship Id="rId27" Type="http://schemas.openxmlformats.org/officeDocument/2006/relationships/image" Target="../media/image36.jpeg"/><Relationship Id="rId2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oopt.info/dmorsk/bigmap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F:/wiki/%25D0%259F%25D0%25BE%25D0%25BB%25D1%2583%25D0%25BE%25D1%2581%25D1%2582%25D1%2580%25D0%25BE%25D0%25B2" TargetMode="External"/><Relationship Id="rId2" Type="http://schemas.openxmlformats.org/officeDocument/2006/relationships/hyperlink" Target="file:///F:/wiki/%25D0%259C%25D0%25B0%25D1%2582%25D0%25B5%25D1%2580%25D0%25B8%25D0%25BA" TargetMode="External"/><Relationship Id="rId3" Type="http://schemas.openxmlformats.org/officeDocument/2006/relationships/hyperlink" Target="file:///F:/wiki/%25D0%2595%25D0%25B2%25D1%2580%25D0%25B0%25D0%25B7%25D0%25B8%25D1%258F" TargetMode="External"/><Relationship Id="rId4" Type="http://schemas.openxmlformats.org/officeDocument/2006/relationships/hyperlink" Target="file:///F:/wiki/%25D0%25A0%25D0%25BE%25D1%2581%25D1%2581%25D0%25B8%25D1%258F" TargetMode="External"/><Relationship Id="rId5" Type="http://schemas.openxmlformats.org/officeDocument/2006/relationships/hyperlink" Target="file:///F:/wiki/%25D0%259E%25D1%2585%25D0%25BE%25D1%2582%25D1%2581%25D0%25BA%25D0%25BE%25D0%25B5_%25D0%25BC%25D0%25BE%25D1%2580%25D0%25B5" TargetMode="External"/><Relationship Id="rId6" Type="http://schemas.openxmlformats.org/officeDocument/2006/relationships/hyperlink" Target="file:///F:/wiki/%25D0%2591%25D0%25B5%25D1%2580%25D0%25B8%25D0%25BD%25D0%25B3%25D0%25BE%25D0%25B2%25D0%25BE_%25D0%25BC%25D0%25BE%25D1%2580%25D0%25B5" TargetMode="External"/><Relationship Id="rId7" Type="http://schemas.openxmlformats.org/officeDocument/2006/relationships/hyperlink" Target="file:///F:/wiki/%25D0%25A2%25D0%25B8%25D1%2585%25D0%25B8%25D0%25B9_%25D0%25BE%25D0%25BA%25D0%25B5%25D0%25B0%25D0%25BD" TargetMode="External"/><Relationship Id="rId8" Type="http://schemas.openxmlformats.org/officeDocument/2006/relationships/hyperlink" Target="file:///F:/wiki/%25D0%259F%25D0%25B5%25D1%2580%25D0%25B5%25D1%2588%25D0%25B5%25D0%25B5%25D0%25BA" TargetMode="External"/><Relationship Id="rId9" Type="http://schemas.openxmlformats.org/officeDocument/2006/relationships/image" Target="../media/image40.jpe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F:/wiki/%25D0%2592%25D1%2583%25D0%25BB%25D0%25BA%25D0%25B0%25D0%25BD" TargetMode="External"/><Relationship Id="rId2" Type="http://schemas.openxmlformats.org/officeDocument/2006/relationships/hyperlink" Target="file:///F:/wiki/%25D0%259A%25D0%25B0%25D0%25BC%25D1%2587%25D0%25B0%25D1%2582%25D1%2581%25D0%25BA%25D0%25B8%25D0%25B9_%25D0%25BA%25D1%2580%25D0%25B0%25D0%25B9" TargetMode="External"/><Relationship Id="rId3" Type="http://schemas.openxmlformats.org/officeDocument/2006/relationships/hyperlink" Target="file:///F:/wiki/%25D0%259A%25D0%25B0%25D0%25BC%25D1%2587%25D0%25B0%25D1%2582%25D1%2581%25D0%25BA%25D0%25B0%25D1%258F_%25D0%25BE%25D0%25B1%25D0%25BB%25D0%25B0%25D1%2581%25D1%2582%25D1%258C" TargetMode="External"/><Relationship Id="rId4" Type="http://schemas.openxmlformats.org/officeDocument/2006/relationships/hyperlink" Target="file:///F:/wiki/%25D0%259F%25D0%25B5%25D1%2582%25D1%2580%25D0%25BE%25D0%25BF%25D0%25B0%25D0%25B2%25D0%25BB%25D0%25BE%25D0%25B2%25D1%2581%25D0%25BA-%25D0%259A%25D0%25B0%25D0%25BC%25D1%2587%25D0%25B0%25D1%2582%25D1%2581%25D0%25BA%25D0%25B8%25D0%25B9" TargetMode="External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F:/wiki/%25D0%25A1%25D0%25BE%25D0%25B1%25D0%25BE%25D0%25BB%25D1%258C" TargetMode="External"/><Relationship Id="rId2" Type="http://schemas.openxmlformats.org/officeDocument/2006/relationships/hyperlink" Target="file:///F:/wiki/%25D0%2593%25D0%25BE%25D1%2580%25D0%25BD%25D0%25BE%25D1%2581%25D1%2582%25D0%25B0%25D0%25B9" TargetMode="External"/><Relationship Id="rId3" Type="http://schemas.openxmlformats.org/officeDocument/2006/relationships/hyperlink" Target="file:///F:/wiki/%25D0%2592%25D1%258B%25D0%25B4%25D1%2580%25D0%25B0" TargetMode="External"/><Relationship Id="rId4" Type="http://schemas.openxmlformats.org/officeDocument/2006/relationships/hyperlink" Target="file:///F:/wiki/%25D0%2597%25D0%25B0%25D1%258F%25D1%2586-%25D0%25B1%25D0%25B5%25D0%25BB%25D1%258F%25D0%25BA" TargetMode="External"/><Relationship Id="rId5" Type="http://schemas.openxmlformats.org/officeDocument/2006/relationships/hyperlink" Target="file:///F:/wiki/%25D0%259E%25D0%25BD%25D0%25B4%25D0%25B0%25D1%2582%25D1%2580%25D0%25B0" TargetMode="External"/><Relationship Id="rId6" Type="http://schemas.openxmlformats.org/officeDocument/2006/relationships/hyperlink" Target="file:///F:/wiki/%25D0%259B%25D0%25B8%25D1%2581%25D0%25B8%25D1%2586%25D0%25B0" TargetMode="External"/><Relationship Id="rId7" Type="http://schemas.openxmlformats.org/officeDocument/2006/relationships/hyperlink" Target="file:///F:/wiki/%25D0%259B%25D0%25BE%25D1%2581%25D1%258C" TargetMode="External"/><Relationship Id="rId8" Type="http://schemas.openxmlformats.org/officeDocument/2006/relationships/hyperlink" Target="file:///F:/wiki/%25D0%25A1%25D0%25B5%25D0%25B2%25D0%25B5%25D1%2580%25D0%25BD%25D1%258B%25D0%25B9_%25D0%25BE%25D0%25BB%25D0%25B5%25D0%25BD%25D1%258C" TargetMode="External"/><Relationship Id="rId9" Type="http://schemas.openxmlformats.org/officeDocument/2006/relationships/hyperlink" Target="file:///F:/wiki/%25D0%25A1%25D0%25BD%25D0%25B5%25D0%25B6%25D0%25BD%25D1%258B%25D0%25B9_%25D0%25B1%25D0%25B0%25D1%2580%25D0%25B0%25D0%25BD" TargetMode="External"/><Relationship Id="rId10" Type="http://schemas.openxmlformats.org/officeDocument/2006/relationships/hyperlink" Target="file:///F:/wiki/%25D0%25A0%25D1%258B%25D1%2581%25D1%258C" TargetMode="External"/><Relationship Id="rId11" Type="http://schemas.openxmlformats.org/officeDocument/2006/relationships/hyperlink" Target="file:///F:/wiki/%25D0%259F%25D0%25BE%25D0%25BB%25D1%258F%25D1%2580%25D0%25BD%25D1%258B%25D0%25B9_%25D0%25B2%25D0%25BE%25D0%25BB%25D0%25BA" TargetMode="External"/><Relationship Id="rId12" Type="http://schemas.openxmlformats.org/officeDocument/2006/relationships/hyperlink" Target="file:///F:/wiki/%25D0%25A0%25D0%25BE%25D1%2581%25D0%25BE%25D0%25BC%25D0%25B0%25D1%2585%25D0%25B0" TargetMode="External"/><Relationship Id="rId13" Type="http://schemas.openxmlformats.org/officeDocument/2006/relationships/hyperlink" Target="file:///F:/wiki/%25D0%259B%25D0%25B0%25D1%2581%25D0%25BA%25D0%25B0_(%25D0%25B6%25D0%25B8%25D0%25B2%25D0%25BE%25D1%2582%25D0%25BD%25D0%25BE%25D0%25B5)" TargetMode="External"/><Relationship Id="rId14" Type="http://schemas.openxmlformats.org/officeDocument/2006/relationships/hyperlink" Target="file:///F:/wiki/%25D0%259A%25D0%25B0%25D0%25B1%25D0%25B0%25D1%2580%25D0%25B3%25D0%25B0" TargetMode="External"/><Relationship Id="rId15" Type="http://schemas.openxmlformats.org/officeDocument/2006/relationships/hyperlink" Target="file:///F:/wiki/%25D0%2594%25D0%25B8%25D0%25BA%25D1%2583%25D1%2588%25D0%25B0" TargetMode="External"/><Relationship Id="rId16" Type="http://schemas.openxmlformats.org/officeDocument/2006/relationships/hyperlink" Target="file:///F:/wiki/%25D0%2591%25D0%25B5%25D0%25BB%25D0%25BA%25D0%25B0-%25D0%25BB%25D0%25B5%25D1%2582%25D1%258F%25D0%25B3%25D0%25B0" TargetMode="External"/><Relationship Id="rId17" Type="http://schemas.openxmlformats.org/officeDocument/2006/relationships/hyperlink" Target="file:///F:/wiki/%25D0%2591%25D1%2583%25D1%2580%25D1%2583%25D0%25BD%25D0%25B4%25D1%2583%25D0%25BA" TargetMode="External"/><Relationship Id="rId18" Type="http://schemas.openxmlformats.org/officeDocument/2006/relationships/hyperlink" Target="file:///F:/wiki/1930-%25D0%25B5" TargetMode="External"/><Relationship Id="rId19" Type="http://schemas.openxmlformats.org/officeDocument/2006/relationships/hyperlink" Target="file:///F:/wiki/XX_%25D0%25B2%25D0%25B5%25D0%25BA" TargetMode="External"/><Relationship Id="rId20" Type="http://schemas.openxmlformats.org/officeDocument/2006/relationships/hyperlink" Target="file:///F:/wiki/%25D0%2591%25D1%2583%25D1%2580%25D1%258B%25D0%25B9_%25D0%25BC%25D0%25B5%25D0%25B4%25D0%25B2%25D0%25B5%25D0%25B4%25D1%258C" TargetMode="External"/><Relationship Id="rId21" Type="http://schemas.openxmlformats.org/officeDocument/2006/relationships/image" Target="../media/image43.jpeg"/><Relationship Id="rId22" Type="http://schemas.openxmlformats.org/officeDocument/2006/relationships/image" Target="../media/image44.jpeg"/><Relationship Id="rId23" Type="http://schemas.openxmlformats.org/officeDocument/2006/relationships/hyperlink" Target="http://ru.wikipedia.org/wiki/&#1060;&#1072;&#1081;&#1083;:Wolverine_on_rock.jpg" TargetMode="External"/><Relationship Id="rId24" Type="http://schemas.openxmlformats.org/officeDocument/2006/relationships/image" Target="../media/image45.jpeg"/><Relationship Id="rId25" Type="http://schemas.openxmlformats.org/officeDocument/2006/relationships/hyperlink" Target="http://ru.wikipedia.org/wiki/&#1060;&#1072;&#1081;&#1083;:Zobel_(Martes_zibellina).png" TargetMode="External"/><Relationship Id="rId26" Type="http://schemas.openxmlformats.org/officeDocument/2006/relationships/image" Target="../media/image46.png"/><Relationship Id="rId2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F:/wiki/%25D0%2591%25D0%25B5%25D1%2580%25D0%25B5%25D0%25B7%25D0%25B0_%25D0%25AD%25D1%2580%25D0%25BC%25D0%25B0%25D0%25BD%25D0%25B0" TargetMode="External"/><Relationship Id="rId2" Type="http://schemas.openxmlformats.org/officeDocument/2006/relationships/image" Target="../media/image47.jpeg"/><Relationship Id="rId3" Type="http://schemas.openxmlformats.org/officeDocument/2006/relationships/hyperlink" Target="http://ru.wikipedia.org/wiki/&#1060;&#1072;&#1081;&#1083;:Betula_ermanii_(200612).jpg" TargetMode="External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F:/wiki/%25D0%259F%25D0%25BE%25D0%25BB%25D1%2583%25D0%25BE%25D1%2581%25D1%2582%25D1%2580%25D0%25BE%25D0%25B2_%25D0%259A%25D0%25B0%25D0%25BC%25D1%2587%25D0%25B0%25D1%2582%25D0%25BA%25D0%25B0" TargetMode="External"/><Relationship Id="rId2" Type="http://schemas.openxmlformats.org/officeDocument/2006/relationships/hyperlink" Target="file:///F:/wiki/%25D0%259A%25D1%2580%25D0%25BE%25D0%25BD%25D0%25BE%25D1%2586%25D0%25BA%25D0%25B8%25D0%25B9_%25D0%25B7%25D0%25B0%25D0%25BF%25D0%25BE%25D0%25B2%25D0%25B5%25D0%25B4%25D0%25BD%25D0%25B8%25D0%25BA" TargetMode="External"/><Relationship Id="rId3" Type="http://schemas.openxmlformats.org/officeDocument/2006/relationships/image" Target="../media/image49.jpeg"/><Relationship Id="rId4" Type="http://schemas.openxmlformats.org/officeDocument/2006/relationships/hyperlink" Target="http://ru.wikipedia.org/wiki/&#1060;&#1072;&#1081;&#1083;:Map_of_Russia_-_Kamchatka_Krai_(2008-03).svg" TargetMode="External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F:/w/index.php%3Ftitle=%25D0%25A8%25D1%2583%25D0%25BC%25D0%25BD%25D0%25B0%25D1%258F_(%25D1%2580%25D0%25B5%25D0%25BA%25D0%25B0)&amp;action=edit&amp;redlink=1" TargetMode="External"/><Relationship Id="rId2" Type="http://schemas.openxmlformats.org/officeDocument/2006/relationships/hyperlink" Target="file:///F:/wiki/%25D0%259A%25D0%25B2%25D0%25B0%25D0%25B4%25D1%2580%25D0%25B0%25D1%2582%25D0%25BD%25D1%258B%25D0%25B9_%25D0%25BA%25D0%25B8%25D0%25BB%25D0%25BE%25D0%25BC%25D0%25B5%25D1%2582%25D1%2580" TargetMode="External"/><Relationship Id="rId3" Type="http://schemas.openxmlformats.org/officeDocument/2006/relationships/hyperlink" Target="file:///F:/wiki/%25D0%2593%25D0%25B5%25D0%25B9%25D0%25B7%25D0%25B5%25D1%2580" TargetMode="External"/><Relationship Id="rId4" Type="http://schemas.openxmlformats.org/officeDocument/2006/relationships/hyperlink" Target="file:///F:/wiki/%25D0%2593%25D1%2580%25D0%25B0%25D0%25B4%25D1%2583%25D1%2581_%25D0%25A6%25D0%25B5%25D0%25BB%25D1%258C%25D1%2581%25D0%25B8%25D1%258F" TargetMode="External"/><Relationship Id="rId5" Type="http://schemas.openxmlformats.org/officeDocument/2006/relationships/hyperlink" Target="file:///F:/wiki/%25D0%259F%25D0%25B0%25D1%2580" TargetMode="External"/><Relationship Id="rId6" Type="http://schemas.openxmlformats.org/officeDocument/2006/relationships/hyperlink" Target="file:///F:/wiki/%25D0%2592%25D1%2583%25D0%25BB%25D0%25BA%25D0%25B0%25D0%25BD_(%25D0%25B3%25D0%25B5%25D0%25BE%25D0%25BB%25D0%25BE%25D0%25B3%25D0%25B8%25D1%258F)" TargetMode="External"/><Relationship Id="rId7" Type="http://schemas.openxmlformats.org/officeDocument/2006/relationships/hyperlink" Target="file:///F:/wiki/%25D0%259A%25D0%25B0%25D0%25BD%25D1%258C%25D0%25BE%25D0%25BD" TargetMode="External"/><Relationship Id="rId8" Type="http://schemas.openxmlformats.org/officeDocument/2006/relationships/hyperlink" Target="file:///F:/wiki/%25D0%259A%25D0%25B8%25D0%25BB%25D0%25BE%25D0%25BC%25D0%25B5%25D1%2582%25D1%2580" TargetMode="External"/><Relationship Id="rId9" Type="http://schemas.openxmlformats.org/officeDocument/2006/relationships/image" Target="../media/image51.jpe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F:/wiki/1981" TargetMode="External"/><Relationship Id="rId2" Type="http://schemas.openxmlformats.org/officeDocument/2006/relationships/hyperlink" Target="file:///F:/w/index.php%3Ftitle=%25D0%2593%25D0%25B5%25D0%25B9%25D0%25B7%25D0%25B5%25D1%2580%25D0%25BD%25D0%25B0%25D1%258F_(%25D1%2580%25D0%25B5%25D0%25BA%25D0%25B0)&amp;action=edit&amp;redlink=1" TargetMode="External"/><Relationship Id="rId3" Type="http://schemas.openxmlformats.org/officeDocument/2006/relationships/hyperlink" Target="file:///F:/wiki/3_%25D0%25B8%25D1%258E%25D0%25BD%25D1%258F" TargetMode="External"/><Relationship Id="rId4" Type="http://schemas.openxmlformats.org/officeDocument/2006/relationships/hyperlink" Target="file:///F:/wiki/2007" TargetMode="External"/><Relationship Id="rId5" Type="http://schemas.openxmlformats.org/officeDocument/2006/relationships/hyperlink" Target="file:///F:/wiki/%25D0%25A1%25D0%25B5%25D0%25BB%25D1%258C" TargetMode="External"/><Relationship Id="rId6" Type="http://schemas.openxmlformats.org/officeDocument/2006/relationships/hyperlink" Target="file:///F:/wiki/%25D0%2593%25D1%2580%25D1%258F%25D0%25B7%25D1%258C" TargetMode="External"/><Relationship Id="rId7" Type="http://schemas.openxmlformats.org/officeDocument/2006/relationships/hyperlink" Target="file:///F:/wiki/%25D0%259A%25D0%25B0%25D0%25BC%25D0%25B5%25D0%25BD%25D1%258C" TargetMode="External"/><Relationship Id="rId8" Type="http://schemas.openxmlformats.org/officeDocument/2006/relationships/hyperlink" Target="file:///F:/wiki/%25D0%2594%25D0%25B0%25D0%25BC%25D0%25B1%25D0%25B0" TargetMode="External"/><Relationship Id="rId9" Type="http://schemas.openxmlformats.org/officeDocument/2006/relationships/hyperlink" Target="file:///F:/wiki/%25D0%259E%25D0%25B7%25D0%25B5%25D1%2580%25D0%25BE" TargetMode="External"/><Relationship Id="rId10" Type="http://schemas.openxmlformats.org/officeDocument/2006/relationships/hyperlink" Target="file:///F:/wiki/%25D0%2592%25D0%25BE%25D0%25B4%25D0%25B0" TargetMode="External"/><Relationship Id="rId11" Type="http://schemas.openxmlformats.org/officeDocument/2006/relationships/slide" Target="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F:/wiki/%25D0%2591%25D0%25B0%25D0%25B7%25D0%25B0%25D0%25B8%25D1%2585%25D0%25B0_(%25D1%2580%25D0%25B5%25D0%25BA%25D0%25B0)" TargetMode="External"/><Relationship Id="rId2" Type="http://schemas.openxmlformats.org/officeDocument/2006/relationships/hyperlink" Target="file:///F:/wiki/%25D0%259C%25D0%25B0%25D0%25BD%25D0%25B0_(%25D1%2580%25D0%25B5%25D0%25BA%25D0%25B0)" TargetMode="External"/><Relationship Id="rId3" Type="http://schemas.openxmlformats.org/officeDocument/2006/relationships/hyperlink" Target="file:///F:/wiki/%25D0%25A1%25D0%25B8%25D0%25B5%25D0%25BD%25D0%25B8%25D1%2582" TargetMode="Externa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F:/wiki/%25D0%25A4%25D0%25B0%25D0%25B9%25D0%25BB:Flag_of_Russia.svg" TargetMode="External"/><Relationship Id="rId2" Type="http://schemas.openxmlformats.org/officeDocument/2006/relationships/hyperlink" Target="file:///F:/wiki/%25D0%25A0%25D0%25BE%25D1%2581%25D1%2581%25D0%25B8%25D1%258F" TargetMode="External"/><Relationship Id="rId3" Type="http://schemas.openxmlformats.org/officeDocument/2006/relationships/hyperlink" Target="file:///F:/wiki/%25D0%259A%25D1%2580%25D0%25B0%25D1%2581%25D0%25BD%25D0%25BE%25D1%258F%25D1%2580%25D1%2581%25D0%25BA" TargetMode="External"/><Relationship Id="rId4" Type="http://schemas.openxmlformats.org/officeDocument/2006/relationships/hyperlink" Target="file:///F:/wiki/%25D0%2593%25D0%25B0" TargetMode="External"/><Relationship Id="rId5" Type="http://schemas.openxmlformats.org/officeDocument/2006/relationships/hyperlink" Target="file:///F:/wiki/1925" TargetMode="External"/><Relationship Id="rId6" Type="http://schemas.openxmlformats.org/officeDocument/2006/relationships/image" Target="../media/image52.jpeg"/><Relationship Id="rId7" Type="http://schemas.openxmlformats.org/officeDocument/2006/relationships/image" Target="../media/image53.jpeg"/><Relationship Id="rId8" Type="http://schemas.openxmlformats.org/officeDocument/2006/relationships/image" Target="../media/image54.jpeg"/><Relationship Id="rId9" Type="http://schemas.openxmlformats.org/officeDocument/2006/relationships/image" Target="../media/image55.jpeg"/><Relationship Id="rId10" Type="http://schemas.openxmlformats.org/officeDocument/2006/relationships/image" Target="../media/image56.jpeg"/><Relationship Id="rId11" Type="http://schemas.openxmlformats.org/officeDocument/2006/relationships/image" Target="../media/image57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F:/wiki/27_%25D0%25B4%25D0%25B5%25D0%25BA%25D0%25B0%25D0%25B1%25D1%2580%25D1%258F" TargetMode="External"/><Relationship Id="rId2" Type="http://schemas.openxmlformats.org/officeDocument/2006/relationships/hyperlink" Target="file:///F:/wiki/1989_%25D0%25B3%25D0%25BE%25D0%25B4" TargetMode="External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F:/wiki/%25D0%2597%25D0%25B0%25D0%25BF%25D0%25BE%25D0%25B2%25D0%25B5%25D0%25B4%25D0%25BD%25D0%25B8%25D0%25BA" TargetMode="External"/><Relationship Id="rId2" Type="http://schemas.openxmlformats.org/officeDocument/2006/relationships/hyperlink" Target="file:///F:/wiki/%25D0%259F%25D0%25B5%25D0%25BD%25D0%25B7%25D0%25B5%25D0%25BD%25D1%2581%25D0%25BA%25D0%25B0%25D1%258F_%25D0%25BE%25D0%25B1%25D0%25BB%25D0%25B0%25D1%2581%25D1%2582%25D1%258C" TargetMode="External"/><Relationship Id="rId3" Type="http://schemas.openxmlformats.org/officeDocument/2006/relationships/hyperlink" Target="file:///F:/wiki/%25D0%259F%25D0%25BE%25D0%25B2%25D0%25BE%25D0%25BB%25D0%25B6%25D1%258C%25D0%25B5" TargetMode="External"/><Relationship Id="rId4" Type="http://schemas.openxmlformats.org/officeDocument/2006/relationships/hyperlink" Target="file:///F:/wiki/%25D0%25A0%25D0%25BE%25D1%2581%25D1%2581%25D0%25B8%25D1%258F" TargetMode="External"/><Relationship Id="rId5" Type="http://schemas.openxmlformats.org/officeDocument/2006/relationships/hyperlink" Target="file:///F:/wiki/%25D0%25A1%25D1%2582%25D0%25B5%25D0%25BF%25D1%258C" TargetMode="External"/><Relationship Id="rId6" Type="http://schemas.openxmlformats.org/officeDocument/2006/relationships/hyperlink" Target="file:///F:/wiki/%25D0%25A3%25D0%25BB%25D1%258C%25D1%258F%25D0%25BD%25D0%25BE%25D0%25B2%25D1%2581%25D0%25BA%25D0%25B0%25D1%258F_%25D0%25BE%25D0%25B1%25D0%25BB%25D0%25B0%25D1%2581%25D1%2582%25D1%258C" TargetMode="External"/><Relationship Id="rId7" Type="http://schemas.openxmlformats.org/officeDocument/2006/relationships/hyperlink" Target="file:///F:/wiki/%25D0%259F%25D1%2580%25D0%25B8%25D0%25B2%25D0%25BE%25D0%25BB%25D0%25B6%25D1%2581%25D0%25BA%25D0%25B0%25D1%258F_%25D0%25B2%25D0%25BE%25D0%25B7%25D0%25B2%25D1%258B%25D1%2588%25D0%25B5%25D0%25BD%25D0%25BD%25D0%25BE%25D1%2581%25D1%2582%25D1%258C" TargetMode="External"/><Relationship Id="rId8" Type="http://schemas.openxmlformats.org/officeDocument/2006/relationships/image" Target="../media/image59.jpeg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F:/wiki/%25D0%25A4%25D0%25B0%25D0%25B9%25D0%25BB:Privolzhskaya_lesostep_87.jpg" TargetMode="External"/><Relationship Id="rId2" Type="http://schemas.openxmlformats.org/officeDocument/2006/relationships/hyperlink" Target="file:///F:/wiki/%25D0%25A4%25D0%25BB%25D0%25BE%25D1%2580%25D0%25B0" TargetMode="External"/><Relationship Id="rId3" Type="http://schemas.openxmlformats.org/officeDocument/2006/relationships/hyperlink" Target="file:///F:/wiki/%25D0%25A1%25D0%25BE%25D1%2581%25D1%2583%25D0%25B4%25D0%25B8%25D1%2581%25D1%2582%25D1%258B%25D0%25B5_%25D1%2580%25D0%25B0%25D1%2581%25D1%2582%25D0%25B5%25D0%25BD%25D0%25B8%25D1%258F" TargetMode="External"/><Relationship Id="rId4" Type="http://schemas.openxmlformats.org/officeDocument/2006/relationships/hyperlink" Target="file:///F:/wiki/%25D0%259B%25D0%25B8%25D1%2588%25D0%25B0%25D0%25B9%25D0%25BD%25D0%25B8%25D0%25BA" TargetMode="External"/><Relationship Id="rId5" Type="http://schemas.openxmlformats.org/officeDocument/2006/relationships/hyperlink" Target="file:///F:/wiki/%25D0%259C%25D0%25BE%25D1%2585%25D0%25BE%25D0%25BE%25D0%25B1%25D1%2580%25D0%25B0%25D0%25B7%25D0%25BD%25D1%258B%25D0%25B5" TargetMode="External"/><Relationship Id="rId6" Type="http://schemas.openxmlformats.org/officeDocument/2006/relationships/hyperlink" Target="file:///F:/wiki/%25D0%2593%25D1%2580%25D0%25B8%25D0%25B1" TargetMode="External"/><Relationship Id="rId7" Type="http://schemas.openxmlformats.org/officeDocument/2006/relationships/hyperlink" Target="file:///F:/w/index.php%3Ftitle=%25D0%25A1%25D1%2580%25D0%25B5%25D0%25B4%25D0%25BD%25D0%25B5%25D0%25B5_%25D0%259F%25D0%25BE%25D0%25B2%25D0%25BE%25D0%25BB%25D0%25B6%25D1%258C%25D0%25B5&amp;action=edit&amp;redlink=1" TargetMode="External"/><Relationship Id="rId8" Type="http://schemas.openxmlformats.org/officeDocument/2006/relationships/hyperlink" Target="file:///F:/wiki/%25D0%259A%25D1%2580%25D0%25B0%25D1%2581%25D0%25BD%25D0%25B0%25D1%258F_%25D0%25BA%25D0%25BD%25D0%25B8%25D0%25B3%25D0%25B0_%25D0%25A0%25D0%25BE%25D1%2581%25D1%2581%25D0%25B8%25D0%25B8" TargetMode="External"/><Relationship Id="rId9" Type="http://schemas.openxmlformats.org/officeDocument/2006/relationships/hyperlink" Target="file:///F:/w/index.php%3Ftitle=%25D0%259C%25D1%2583%25D1%2585%25D0%25BE%25D0%25BC%25D0%25BE%25D1%2580_%25D1%2588%25D0%25B8%25D1%2588%25D0%25BA%25D0%25BE%25D0%25B2%25D0%25B8%25D0%25B4%25D0%25BD%25D1%258B%25D0%25B9&amp;action=edit&amp;redlink=1" TargetMode="External"/><Relationship Id="rId10" Type="http://schemas.openxmlformats.org/officeDocument/2006/relationships/hyperlink" Target="file:///F:/w/index.php%3Ftitle=%25D0%25A0%25D1%258F%25D0%25B1%25D1%2587%25D0%25B8%25D0%25BA_%25D1%2580%25D1%2583%25D1%2581%25D1%2581%25D0%25BA%25D0%25B8%25D0%25B9&amp;action=edit&amp;redlink=1" TargetMode="External"/><Relationship Id="rId11" Type="http://schemas.openxmlformats.org/officeDocument/2006/relationships/hyperlink" Target="file:///F:/w/index.php%3Ftitle=%25D0%259D%25D0%25B5%25D0%25BE%25D1%2582%25D1%2582%25D0%25B8%25D0%25B0%25D0%25BD%25D1%2582%25D0%25B0_%25D0%25BA%25D0%25BB%25D0%25BE%25D0%25B1%25D1%2583%25D1%2587%25D0%25BA%25D0%25BE%25D0%25B2%25D0%25B0%25D1%258F&amp;action=edit&amp;redlink=1" TargetMode="External"/><Relationship Id="rId12" Type="http://schemas.openxmlformats.org/officeDocument/2006/relationships/hyperlink" Target="file:///F:/w/index.php%3Ftitle=%25D0%259F%25D1%258B%25D0%25BB%25D1%258C%25D1%2586%25D0%25B5%25D0%25B3%25D0%25BE%25D0%25BB%25D0%25BE%25D0%25B2%25D0%25BD%25D0%25B8%25D0%25BA_%25D0%25BA%25D1%2580%25D0%25B0%25D1%2581%25D0%25BD%25D1%258B%25D0%25B9&amp;action=edit&amp;redlink=1" TargetMode="External"/><Relationship Id="rId13" Type="http://schemas.openxmlformats.org/officeDocument/2006/relationships/hyperlink" Target="file:///F:/w/index.php%3Ftitle=%25D0%259D%25D0%25B0%25D0%25B4%25D0%25B1%25D0%25BE%25D1%2580%25D0%25BE%25D0%25B4%25D0%25BD%25D0%25B8%25D0%25BA_%25D0%25B1%25D0%25B5%25D0%25B7%25D0%25BB%25D0%25B8%25D1%2581%25D1%2582%25D0%25BD%25D1%258B%25D0%25B9&amp;action=edit&amp;redlink=1" TargetMode="External"/><Relationship Id="rId14" Type="http://schemas.openxmlformats.org/officeDocument/2006/relationships/hyperlink" Target="file:///F:/wiki/%25D0%259A%25D0%25BE%25D0%25B2%25D1%258B%25D0%25BB%25D1%258C" TargetMode="External"/><Relationship Id="rId15" Type="http://schemas.openxmlformats.org/officeDocument/2006/relationships/hyperlink" Target="file:///F:/w/index.php%3Ftitle=%25D0%259A%25D0%25BE%25D0%25B2%25D1%258B%25D0%25BB%25D1%258C_%25D0%25BE%25D0%25BF%25D1%2583%25D1%2588%25D0%25B5%25D0%25BD%25D0%25BD%25D0%25BE%25D0%25BB%25D0%25B8%25D1%2581%25D1%2582%25D0%25BD%25D1%258B%25D0%25B9&amp;action=edit&amp;redlink=1" TargetMode="External"/><Relationship Id="rId16" Type="http://schemas.openxmlformats.org/officeDocument/2006/relationships/hyperlink" Target="file:///F:/w/index.php%3Ftitle=%25D0%259A%25D0%25BE%25D0%25B2%25D1%258B%25D0%25BB%25D1%258C_%25D0%25BF%25D0%25B5%25D1%2580%25D0%25B8%25D1%2581%25D1%2582%25D1%258B%25D0%25B9&amp;action=edit&amp;redlink=1" TargetMode="External"/><Relationship Id="rId17" Type="http://schemas.openxmlformats.org/officeDocument/2006/relationships/hyperlink" Target="file:///F:/w/index.php%3Ftitle=%25D0%259A%25D0%25BE%25D0%25B2%25D1%258B%25D0%25BB%25D1%258C_%25D0%25BA%25D1%2580%25D0%25B0%25D1%2581%25D0%25B8%25D0%25B2%25D0%25B5%25D0%25B9%25D1%2588%25D0%25B8%25D0%25B9&amp;action=edit&amp;redlink=1" TargetMode="External"/><Relationship Id="rId18" Type="http://schemas.openxmlformats.org/officeDocument/2006/relationships/hyperlink" Target="file:///F:/w/index.php%3Ftitle=%25D0%259A%25D0%25BE%25D0%25B2%25D1%258B%25D0%25BB%25D1%258C_%25D0%2597%25D0%25B0%25D0%25BB%25D0%25B5%25D1%2581%25D1%2581%25D0%25BA%25D0%25BE%25D0%25B3%25D0%25BE&amp;action=edit&amp;redlink=1" TargetMode="External"/><Relationship Id="rId19" Type="http://schemas.openxmlformats.org/officeDocument/2006/relationships/hyperlink" Target="file:///F:/w/index.php%3Ftitle=%25D0%259A%25D1%2580%25D0%25B0%25D1%2581%25D0%25BD%25D0%25B0%25D1%258F_%25D0%25BA%25D0%25BD%25D0%25B8%25D0%25B3%25D0%25B0_%25D0%259F%25D0%25B5%25D0%25BD%25D0%25B7%25D0%25B5%25D0%25BD%25D1%2581%25D0%25BA%25D0%25BE%25D0%25B9_%25D0%25BE%25D0%25B1%25D0%25BB%25D0%25B0%25D1%2581%25D1%2582%25D0%25B8&amp;action=edit&amp;redlink=1" TargetMode="External"/><Relationship Id="rId20" Type="http://schemas.openxmlformats.org/officeDocument/2006/relationships/image" Target="../media/image60.jpeg"/><Relationship Id="rId2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F:/wiki/%25D0%25A0%25D1%258B%25D0%25B1%25D1%258B" TargetMode="External"/><Relationship Id="rId2" Type="http://schemas.openxmlformats.org/officeDocument/2006/relationships/hyperlink" Target="file:///F:/wiki/%25D0%2593%25D0%25BE%25D0%25BB%25D1%258C%25D1%258F%25D0%25BD" TargetMode="External"/><Relationship Id="rId3" Type="http://schemas.openxmlformats.org/officeDocument/2006/relationships/hyperlink" Target="file:///F:/wiki/%25D0%2593%25D0%25BE%25D0%25BB%25D0%25B5%25D1%2586_(%25D1%2580%25D1%258B%25D0%25B1%25D0%25B0)" TargetMode="External"/><Relationship Id="rId4" Type="http://schemas.openxmlformats.org/officeDocument/2006/relationships/hyperlink" Target="file:///F:/wiki/%25D0%2593%25D0%25BE%25D0%25BB%25D0%25B0%25D0%25B2%25D0%25BB%25D1%258C" TargetMode="External"/><Relationship Id="rId5" Type="http://schemas.openxmlformats.org/officeDocument/2006/relationships/hyperlink" Target="file:///F:/wiki/%25D0%259E%25D0%25BA%25D1%2583%25D0%25BD%25D1%258C" TargetMode="External"/><Relationship Id="rId6" Type="http://schemas.openxmlformats.org/officeDocument/2006/relationships/hyperlink" Target="file:///F:/w/index.php%3Ftitle=%25D0%259A%25D0%25B0%25D1%2580%25D0%25B0%25D1%2581%25D1%258C_%25D0%25B7%25D0%25BE%25D0%25BB%25D0%25BE%25D1%2582%25D0%25BE%25D0%25B9&amp;action=edit&amp;redlink=1" TargetMode="External"/><Relationship Id="rId7" Type="http://schemas.openxmlformats.org/officeDocument/2006/relationships/hyperlink" Target="file:///F:/wiki/%25D0%259F%25D0%25BB%25D0%25BE%25D1%2582%25D0%25B2%25D0%25B0" TargetMode="External"/><Relationship Id="rId8" Type="http://schemas.openxmlformats.org/officeDocument/2006/relationships/hyperlink" Target="file:///F:/wiki/%25D0%2592%25D1%258C%25D1%258E%25D0%25BD" TargetMode="External"/><Relationship Id="rId9" Type="http://schemas.openxmlformats.org/officeDocument/2006/relationships/hyperlink" Target="file:///F:/wiki/%25D0%259D%25D0%25B0%25D0%25BB%25D0%25B8%25D0%25BC" TargetMode="External"/><Relationship Id="rId10" Type="http://schemas.openxmlformats.org/officeDocument/2006/relationships/hyperlink" Target="file:///F:/wiki/%25D0%25A9%25D1%2583%25D0%25BA%25D0%25B0" TargetMode="External"/><Relationship Id="rId11" Type="http://schemas.openxmlformats.org/officeDocument/2006/relationships/hyperlink" Target="file:///F:/wiki/%25D0%25AF%25D0%25B7%25D1%258C" TargetMode="External"/><Relationship Id="rId12" Type="http://schemas.openxmlformats.org/officeDocument/2006/relationships/hyperlink" Target="file:///F:/wiki/%25D0%259B%25D0%25B8%25D0%25BD%25D1%258C" TargetMode="External"/><Relationship Id="rId13" Type="http://schemas.openxmlformats.org/officeDocument/2006/relationships/hyperlink" Target="file:///F:/wiki/%25D0%259B%25D0%25B5%25D1%2589" TargetMode="External"/><Relationship Id="rId14" Type="http://schemas.openxmlformats.org/officeDocument/2006/relationships/hyperlink" Target="file:///F:/wiki/%25D0%2592%25D0%25B5%25D1%2580%25D1%2585%25D0%25BE%25D0%25B2%25D0%25BA%25D0%25B0" TargetMode="External"/><Relationship Id="rId15" Type="http://schemas.openxmlformats.org/officeDocument/2006/relationships/hyperlink" Target="file:///F:/wiki/%25D0%25A3%25D0%25BA%25D0%25BB%25D0%25B5%25D0%25B9%25D0%25BA%25D0%25B0" TargetMode="External"/><Relationship Id="rId16" Type="http://schemas.openxmlformats.org/officeDocument/2006/relationships/hyperlink" Target="file:///F:/wiki/%25D0%2595%25D0%25BB%25D0%25B5%25D1%2586" TargetMode="External"/><Relationship Id="rId17" Type="http://schemas.openxmlformats.org/officeDocument/2006/relationships/hyperlink" Target="file:///F:/wiki/%25D0%259F%25D0%25B5%25D1%2581%25D0%25BA%25D0%25B0%25D1%2580%25D1%258C" TargetMode="External"/><Relationship Id="rId18" Type="http://schemas.openxmlformats.org/officeDocument/2006/relationships/hyperlink" Target="file:///F:/wiki/%25D0%2595%25D1%2580%25D1%2588" TargetMode="External"/><Relationship Id="rId1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F:/wiki/%25D0%259A%25D1%2580%25D0%25B0%25D1%2581%25D0%25BD%25D0%25B0%25D1%258F_%25D0%25BA%25D0%25BD%25D0%25B8%25D0%25B3%25D0%25B0_%25D0%25A0%25D0%25BE%25D1%2581%25D1%2581%25D0%25B8%25D0%25B8" TargetMode="External"/><Relationship Id="rId2" Type="http://schemas.openxmlformats.org/officeDocument/2006/relationships/hyperlink" Target="file:///F:/wiki/%25D0%259A%25D0%25BE%25D0%25B2%25D1%258B%25D0%25BB%25D1%258C" TargetMode="External"/><Relationship Id="rId3" Type="http://schemas.openxmlformats.org/officeDocument/2006/relationships/hyperlink" Target="file:///F:/w/index.php%3Ftitle=%25D0%259A%25D0%25BE%25D0%25B2%25D1%258B%25D0%25BB%25D1%258C_%25D0%25BE%25D0%25BF%25D1%2583%25D1%2588%25D0%25B5%25D0%25BD%25D0%25BD%25D0%25BE%25D0%25BB%25D0%25B8%25D1%2581%25D1%2582%25D0%25BD%25D1%258B%25D0%25B9&amp;action=edit&amp;redlink=1" TargetMode="External"/><Relationship Id="rId4" Type="http://schemas.openxmlformats.org/officeDocument/2006/relationships/hyperlink" Target="file:///F:/w/index.php%3Ftitle=%25D0%259A%25D0%25BE%25D0%25B2%25D1%258B%25D0%25BB%25D1%258C_%25D0%25BF%25D0%25B5%25D1%2580%25D0%25B8%25D1%2581%25D1%2582%25D1%258B%25D0%25B9&amp;action=edit&amp;redlink=1" TargetMode="External"/><Relationship Id="rId5" Type="http://schemas.openxmlformats.org/officeDocument/2006/relationships/hyperlink" Target="file:///F:/w/index.php%3Ftitle=%25D0%259A%25D0%25BE%25D0%25B2%25D1%258B%25D0%25BB%25D1%258C_%25D0%25BA%25D1%2580%25D0%25B0%25D1%2581%25D0%25B8%25D0%25B2%25D0%25B5%25D0%25B9%25D1%2588%25D0%25B8%25D0%25B9&amp;action=edit&amp;redlink=1" TargetMode="External"/><Relationship Id="rId6" Type="http://schemas.openxmlformats.org/officeDocument/2006/relationships/hyperlink" Target="file:///F:/w/index.php%3Ftitle=%25D0%259A%25D0%25BE%25D0%25B2%25D1%258B%25D0%25BB%25D1%258C_%25D0%2597%25D0%25B0%25D0%25BB%25D0%25B5%25D1%2581%25D1%2581%25D0%25BA%25D0%25BE%25D0%25B3%25D0%25BE&amp;action=edit&amp;redlink=1" TargetMode="External"/><Relationship Id="rId7" Type="http://schemas.openxmlformats.org/officeDocument/2006/relationships/image" Target="../media/image61.jpe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F:/w/index.php%3Ftitle=%25D0%259F%25D0%25BE%25D0%25BB%25D0%25B5%25D0%25B2%25D0%25BA%25D0%25B0_%25D0%25B5%25D0%25B2%25D1%2580%25D0%25BE%25D0%25BF%25D0%25B5%25D0%25B9%25D1%2581%25D0%25BA%25D0%25B0%25D1%258F_%25D1%2580%25D1%258B%25D0%25B6%25D0%25B0%25D1%258F&amp;action=edit&amp;redlink=1" TargetMode="External"/><Relationship Id="rId2" Type="http://schemas.openxmlformats.org/officeDocument/2006/relationships/hyperlink" Target="file:///F:/w/index.php%3Ftitle=%25D0%259C%25D1%258B%25D1%2588%25D1%258C_%25D0%25BB%25D0%25B5%25D1%2581%25D0%25BD%25D0%25B0%25D1%258F&amp;action=edit&amp;redlink=1" TargetMode="External"/><Relationship Id="rId3" Type="http://schemas.openxmlformats.org/officeDocument/2006/relationships/hyperlink" Target="file:///F:/w/index.php%3Ftitle=%25D0%2596%25D0%25B5%25D0%25BB%25D1%2582%25D0%25BE%25D0%25B3%25D0%25BE%25D1%2580%25D0%25BB%25D0%25B0%25D1%258F_%25D0%25BC%25D1%258B%25D1%2588%25D1%258C&amp;action=edit&amp;redlink=1" TargetMode="External"/><Relationship Id="rId4" Type="http://schemas.openxmlformats.org/officeDocument/2006/relationships/hyperlink" Target="file:///F:/w/index.php%3Ftitle=%25D0%2591%25D1%2583%25D1%2580%25D0%25BE%25D0%25B7%25D1%2583%25D0%25B1%25D0%25BA%25D0%25B0_%25D0%25BE%25D0%25B1%25D1%258B%25D0%25BA%25D0%25BD%25D0%25BE%25D0%25B2%25D0%25B5%25D0%25BD%25D0%25BD%25D0%25B0%25D1%258F&amp;action=edit&amp;redlink=1" TargetMode="External"/><Relationship Id="rId5" Type="http://schemas.openxmlformats.org/officeDocument/2006/relationships/hyperlink" Target="file:///F:/wiki/%25D0%259A%25D1%2583%25D0%25BD%25D0%25B8%25D1%2586%25D0%25B0_%25D0%25BB%25D0%25B5%25D1%2581%25D0%25BD%25D0%25B0%25D1%258F" TargetMode="External"/><Relationship Id="rId6" Type="http://schemas.openxmlformats.org/officeDocument/2006/relationships/hyperlink" Target="file:///F:/wiki/%25D0%2591%25D0%25B0%25D1%2580%25D1%2581%25D1%2583%25D0%25BA" TargetMode="External"/><Relationship Id="rId7" Type="http://schemas.openxmlformats.org/officeDocument/2006/relationships/hyperlink" Target="file:///F:/wiki/%25D0%2597%25D0%25B0%25D1%258F%25D1%2586" TargetMode="External"/><Relationship Id="rId8" Type="http://schemas.openxmlformats.org/officeDocument/2006/relationships/hyperlink" Target="file:///F:/wiki/%25D0%259B%25D0%25BE%25D1%2581%25D1%258C" TargetMode="External"/><Relationship Id="rId9" Type="http://schemas.openxmlformats.org/officeDocument/2006/relationships/hyperlink" Target="file:///F:/wiki/%25D0%259A%25D0%25B0%25D0%25B1%25D0%25B0%25D0%25BD" TargetMode="External"/><Relationship Id="rId10" Type="http://schemas.openxmlformats.org/officeDocument/2006/relationships/hyperlink" Target="file:///F:/wiki/%25D0%259F%25D0%25BE%25D0%25BB%25D1%2591%25D0%25B2%25D0%25BA%25D0%25B0_%25D0%25BE%25D0%25B1%25D1%258B%25D0%25BA%25D0%25BD%25D0%25BE%25D0%25B2%25D0%25B5%25D0%25BD%25D0%25BD%25D0%25B0%25D1%258F" TargetMode="External"/><Relationship Id="rId11" Type="http://schemas.openxmlformats.org/officeDocument/2006/relationships/hyperlink" Target="file:///F:/w/index.php%3Ftitle=%25D0%25A1%25D0%25BB%25D0%25B5%25D0%25BF%25D1%258B%25D1%2588&amp;action=edit&amp;redlink=1" TargetMode="External"/><Relationship Id="rId12" Type="http://schemas.openxmlformats.org/officeDocument/2006/relationships/hyperlink" Target="file:///F:/wiki/%25D0%259F%25D0%25B5%25D1%2581%25D1%2582%25D1%2580%25D1%2583%25D1%2588%25D0%25BA%25D0%25B0_%25D1%2581%25D1%2582%25D0%25B5%25D0%25BF%25D0%25BD%25D0%25B0%25D1%258F" TargetMode="External"/><Relationship Id="rId13" Type="http://schemas.openxmlformats.org/officeDocument/2006/relationships/hyperlink" Target="file:///F:/wiki/%25D0%25A2%25D1%2583%25D1%2588%25D0%25BA%25D0%25B0%25D0%25BD%25D1%2587%25D0%25B8%25D0%25BA_%25D0%25B1%25D0%25BE%25D0%25BB%25D1%258C%25D1%2588%25D0%25BE%25D0%25B9" TargetMode="External"/><Relationship Id="rId1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F:/wiki/%25D0%2591%25D0%25B5%25D0%25BB%25D0%25BE%25D0%25B5_%25D0%25BC%25D0%25BE%25D1%2580%25D0%25B5" TargetMode="External"/><Relationship Id="rId2" Type="http://schemas.openxmlformats.org/officeDocument/2006/relationships/hyperlink" Target="file:///F:/wiki/%25D0%259E%25D0%25BD%25D0%25B5%25D0%25B6%25D1%2581%25D0%25BA%25D0%25B0%25D1%258F_%25D0%25B3%25D1%2583%25D0%25B1%25D0%25B0" TargetMode="External"/><Relationship Id="rId3" Type="http://schemas.openxmlformats.org/officeDocument/2006/relationships/slide" Target=""/><Relationship Id="rId4" Type="http://schemas.openxmlformats.org/officeDocument/2006/relationships/hyperlink" Target="file:///F:/w/index.php%3Ftitle=%25D0%2591%25D0%25BE%25D0%25BB%25D1%258C%25D1%2588%25D0%25BE%25D0%25B9_%25D0%25A1%25D0%25BE%25D0%25BB%25D0%25BE%25D0%25B2%25D0%25B5%25D1%2586%25D0%25BA%25D0%25B8%25D0%25B9_%25D0%25BE%25D1%2581%25D1%2582%25D1%2580%25D0%25BE%25D0%25B2&amp;action=edit&amp;redlink=1" TargetMode="External"/><Relationship Id="rId5" Type="http://schemas.openxmlformats.org/officeDocument/2006/relationships/image" Target="../media/image62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F:/wiki/%25D0%259F%25D1%2580%25D0%25B8%25D0%25BC%25D0%25BE%25D1%2580%25D1%2581%25D0%25BA%25D0%25B8%25D0%25B9_%25D0%25BA%25D1%2580%25D0%25B0%25D0%25B9" TargetMode="External"/><Relationship Id="rId2" Type="http://schemas.openxmlformats.org/officeDocument/2006/relationships/hyperlink" Target="file:///F:/wiki/%25D0%25A5%25D0%25B0%25D0%25BD%25D0%25BA%25D0%25B0" TargetMode="External"/><Relationship Id="rId3" Type="http://schemas.openxmlformats.org/officeDocument/2006/relationships/hyperlink" Target="file:///F:/wiki/%25D0%25AF%25D0%25BF%25D0%25BE%25D0%25BD%25D1%2581%25D0%25BA%25D0%25B8%25D0%25B9_%25D0%25B6%25D1%2583%25D1%2580%25D0%25B0%25D0%25B2%25D0%25BB%25D1%258C" TargetMode="External"/><Relationship Id="rId4" Type="http://schemas.openxmlformats.org/officeDocument/2006/relationships/hyperlink" Target="file:///F:/wiki/%25D0%2594%25D0%25B0%25D1%2583%25D1%2580%25D1%2581%25D0%25BA%25D0%25B8%25D0%25B9_%25D0%25B6%25D1%2583%25D1%2580%25D0%25B0%25D0%25B2%25D0%25BB%25D1%258C" TargetMode="External"/><Relationship Id="rId5" Type="http://schemas.openxmlformats.org/officeDocument/2006/relationships/hyperlink" Target="file:///F:/wiki/%25D0%259A%25D1%2580%25D0%25B0%25D1%2581%25D0%25BD%25D0%25BE%25D0%25BD%25D0%25BE%25D0%25B3%25D0%25B8%25D0%25B9_%25D0%25B8%25D0%25B1%25D0%25B8%25D1%2581" TargetMode="External"/><Relationship Id="rId6" Type="http://schemas.openxmlformats.org/officeDocument/2006/relationships/hyperlink" Target="file:///F:/wiki/%25D0%259A%25D0%25BE%25D0%25BB%25D0%25BF%25D0%25B8%25D1%2586%25D0%25B0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ru.wikipedia.org/wiki/&#1060;&#1072;&#1081;&#1083;:Nipponia_nippon.png" TargetMode="External"/><Relationship Id="rId3" Type="http://schemas.openxmlformats.org/officeDocument/2006/relationships/image" Target="../media/image10.png"/><Relationship Id="rId4" Type="http://schemas.openxmlformats.org/officeDocument/2006/relationships/hyperlink" Target="http://ru.wikipedia.org/wiki/&#1060;&#1072;&#1081;&#1083;:Loeffler.jpg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F:/w/index.php%3Ftitle=%25D0%25AD%25D0%25B2%25D1%2580%25D0%25B8%25D0%25B0%25D0%25BB%25D0%25B0_%25D1%2583%25D1%2581%25D1%2582%25D1%2580%25D0%25B0%25D1%2588%25D0%25B0%25D1%258E%25D1%2589%25D0%25B0%25D1%258F&amp;action=edit&amp;redlink=1" TargetMode="External"/><Relationship Id="rId2" Type="http://schemas.openxmlformats.org/officeDocument/2006/relationships/hyperlink" Target="file:///F:/wiki/%25D0%259B%25D0%25BE%25D1%2582%25D0%25BE%25D1%2581_%25D0%259A%25D0%25BE%25D0%25BC%25D0%25B0%25D1%2580%25D0%25BE%25D0%25B2%25D0%25B0" TargetMode="External"/><Relationship Id="rId3" Type="http://schemas.openxmlformats.org/officeDocument/2006/relationships/hyperlink" Target="file:///F:/wiki/%25D0%2591%25D1%2580%25D0%25B0%25D0%25B7%25D0%25B5%25D0%25BD%25D0%25B8%25D1%258F_%25D0%25A8%25D1%2580%25D0%25B5%25D0%25B1%25D0%25B5%25D1%2580%25D0%25B0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ru.wikipedia.org/wiki/&#1060;&#1072;&#1081;&#1083;:BraseniaAlt.jpg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Заповедники России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ихотэ-Алинский заповедник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Сихотэ́-Али́нский государственный биосферный природный заповедник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был организован 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1935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года и является уникальной природной сокровищницей России. Первоначальная цель его создания - сохранение и восстановление почти истреблённого в то время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собол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 В настоящее время заповедник представляет собой наиболее удобное место для проведения наблюдений за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амурским тигром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 Сихотэ-Алинский заповедник был также первым природным парком на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Дальнем Востоке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включённым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ЮНЕСКО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во всемирную систему биосферных заповедников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9" name="Picture 10" descr="Zap emblem.jpg"/>
          <p:cNvPicPr/>
          <p:nvPr/>
        </p:nvPicPr>
        <p:blipFill>
          <a:blip r:embed="rId6"/>
          <a:stretch/>
        </p:blipFill>
        <p:spPr>
          <a:xfrm>
            <a:off x="4932360" y="2119320"/>
            <a:ext cx="36003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Охраняемые виды растений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Башмачок крупноцветковы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Башмачок настоящи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Бородатка японс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Борец сихотински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Груша уссурийс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Диоскорея японс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Заманиха высо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Касатик мечевидны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Котовник манчьжурски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Кубышка мал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Курильский чай маньчжурски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Лилия даурс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Лилия двурядн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4"/>
              </a:rPr>
              <a:t>Лимонник китайски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5"/>
              </a:rPr>
              <a:t>Лиственница ольгинс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женьшень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Лимонник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енерин башмачок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Женьшень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3" name="Picture 8" descr="180px-Schisandra_sinensis_flower"/>
          <p:cNvPicPr/>
          <p:nvPr/>
        </p:nvPicPr>
        <p:blipFill>
          <a:blip r:embed="rId16"/>
          <a:stretch/>
        </p:blipFill>
        <p:spPr>
          <a:xfrm>
            <a:off x="5651640" y="2492280"/>
            <a:ext cx="2305080" cy="1779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Венерин башмачок настоящий и другие орхидеи средней Карелии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3851280" y="393372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5" descr="ginseng"/>
          <p:cNvPicPr/>
          <p:nvPr/>
        </p:nvPicPr>
        <p:blipFill>
          <a:blip r:embed="rId19"/>
          <a:stretch/>
        </p:blipFill>
        <p:spPr>
          <a:xfrm>
            <a:off x="6012000" y="4653000"/>
            <a:ext cx="230328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храняемые виды животных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7" name="Picture 4" descr="180px-Siberian-Tiger"/>
          <p:cNvPicPr/>
          <p:nvPr/>
        </p:nvPicPr>
        <p:blipFill>
          <a:blip r:embed="rId1"/>
          <a:stretch/>
        </p:blipFill>
        <p:spPr>
          <a:xfrm>
            <a:off x="395280" y="3573360"/>
            <a:ext cx="3487680" cy="18525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Млекопитающи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Тигр амурски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Горал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Лос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Пятнистый олен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Гималайский медвед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Птицы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Аист чёрны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Бекас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Picture 8" descr="Горалы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79280" y="1052640"/>
            <a:ext cx="2160720" cy="2160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Гималайский медведь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340000" y="2185920"/>
            <a:ext cx="2259000" cy="1692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Обыкновенный бекас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04000" y="5106960"/>
            <a:ext cx="2016000" cy="1517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4" descr="АИСТ ЧЁРНЫЙ"/>
          <p:cNvPicPr/>
          <p:nvPr/>
        </p:nvPicPr>
        <p:blipFill>
          <a:blip r:embed="rId15"/>
          <a:stretch/>
        </p:blipFill>
        <p:spPr>
          <a:xfrm>
            <a:off x="2411280" y="4941720"/>
            <a:ext cx="2376720" cy="17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Лазовский заповедник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расположен в Южном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Приморь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к востоку от долины реки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Киев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на территории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Лазовского район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Приморского кра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1928 году сформирован как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заказник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а в 1957 году преобразован в самостоятельный заповедник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Занимает площадь в 120 989 га. Климат на его территории носит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муссонный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характер. Лесами занято 96% территории заповедника. Крупнейшая роща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тис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на Дальнем Восток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Picture 7" descr="Лазовский заповедник (Россия)"/>
          <p:cNvPicPr/>
          <p:nvPr/>
        </p:nvPicPr>
        <p:blipFill>
          <a:blip r:embed="rId8"/>
          <a:stretch/>
        </p:blipFill>
        <p:spPr>
          <a:xfrm>
            <a:off x="539640" y="3457440"/>
            <a:ext cx="403236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Охраняемые виды млекопитающих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Амурский горал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Амурский тигр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Гигантская бурозубк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Дальневосточный леопард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 в настоящий момент не встречается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быкновенный длиннокрыл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–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Уссурийский пятнистый олен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16000" y="148392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Гималайский медведь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0" name="Picture 8" descr="180px-Ursus_thibetanus_Phila"/>
          <p:cNvPicPr/>
          <p:nvPr/>
        </p:nvPicPr>
        <p:blipFill>
          <a:blip r:embed="rId7"/>
          <a:stretch/>
        </p:blipFill>
        <p:spPr>
          <a:xfrm>
            <a:off x="4859280" y="224784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храняемые виды птиц 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Дальневосточный кроншнеп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Даурский журавл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Дроф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Египетская цапл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Желтоклювая цапл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Клоктун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Колпиц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Красноногий ибис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Кречет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мандаринк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роншнеп ,колпица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андаринк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4" name="Picture 8" descr="180px-Mandarin"/>
          <p:cNvPicPr/>
          <p:nvPr/>
        </p:nvPicPr>
        <p:blipFill>
          <a:blip r:embed="rId10"/>
          <a:stretch/>
        </p:blipFill>
        <p:spPr>
          <a:xfrm>
            <a:off x="5580000" y="4430880"/>
            <a:ext cx="3386160" cy="2427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Кроншнепы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780000" y="27082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" descr="Колпица обыкновенная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516720" y="2421000"/>
            <a:ext cx="233028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Малая крачк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Малы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лебед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Нырок Бэр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быкновенный фламинго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Орлан-белохвост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Охотский улит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Пискульк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Рогатая камышниц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Рыбный филин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Сапсан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искульк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мышница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апсан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9" name="Picture 8" descr="180px-PeregrineFalcon"/>
          <p:cNvPicPr/>
          <p:nvPr/>
        </p:nvPicPr>
        <p:blipFill>
          <a:blip r:embed="rId12"/>
          <a:stretch/>
        </p:blipFill>
        <p:spPr>
          <a:xfrm>
            <a:off x="6656400" y="4076640"/>
            <a:ext cx="2214720" cy="2781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КРАЧКА МАЛАЯ"/>
          <p:cNvPicPr/>
          <p:nvPr/>
        </p:nvPicPr>
        <p:blipFill>
          <a:blip r:embed="rId13"/>
          <a:stretch/>
        </p:blipFill>
        <p:spPr>
          <a:xfrm>
            <a:off x="179280" y="93600"/>
            <a:ext cx="2160720" cy="1621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ЛЕБЕДЬ МАЛЫЙ"/>
          <p:cNvPicPr/>
          <p:nvPr/>
        </p:nvPicPr>
        <p:blipFill>
          <a:blip r:embed="rId14"/>
          <a:stretch/>
        </p:blipFill>
        <p:spPr>
          <a:xfrm>
            <a:off x="2556000" y="189000"/>
            <a:ext cx="2663640" cy="1739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Qtqy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500720" y="765000"/>
            <a:ext cx="2619360" cy="1800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6" descr="Орлан-белохвост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027920" y="1125360"/>
            <a:ext cx="2116080" cy="1586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8" descr="Рогатая камышница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2987640" y="51148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2" descr="Ente unbekannt 1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3262320" y="3046320"/>
            <a:ext cx="1741320" cy="15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Курильский  заповедни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Курильские острова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— цепь вулканических островов между полуостровом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Камчатка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 островом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Хоккайдо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отделяют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Охотское море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от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Тихого океана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. Протяжённость — 1175 км. Площадь — 15,6 тыс. км². Имеют важное военно-стратегическое и большое экономическое значение. Включают 20 крупных и более 30 мелких островов. В настоящий момент все Курильские острова контролируются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Россие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 входят в её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Сахалинскую область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-360" y="549000"/>
            <a:ext cx="44276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урильские острова — это типичная энсиматическая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островная дуг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на краю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Охотской плиты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Она находится над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зоной субдукци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в которой поглощается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тихоокеанская плит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Бо́льшая часть островов гориста. Наибольшая высота 2339 м —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стров Атласов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вулкан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Алаид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Около 40 действующих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вулканов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; горячие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минеральные источник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Высокая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сейсмичност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(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Тихоокеанское вулканическое огненное кольцо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). Нередки крупные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цунам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стров Атласов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0" name="Picture 8" descr="180px-Atlasovisland"/>
          <p:cNvPicPr/>
          <p:nvPr/>
        </p:nvPicPr>
        <p:blipFill>
          <a:blip r:embed="rId12"/>
          <a:stretch/>
        </p:blipFill>
        <p:spPr>
          <a:xfrm>
            <a:off x="4284720" y="2287440"/>
            <a:ext cx="460836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Животный мир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Бакланы на острове Шумшу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924360" y="1197000"/>
            <a:ext cx="4968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На островах обитают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лис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мелкие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грызун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Большое количество птиц: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ржан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чай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утины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баклан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буревестни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альбатрос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воробьины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сов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соколообразны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и другие. Много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птичьих колоний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рибрежный подводный мир, в отличие от островов, не только многочисленен, но и весьма разнообразен. В прибрежных водах обитают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нерп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4"/>
              </a:rPr>
              <a:t>калан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5"/>
              </a:rPr>
              <a:t>косат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6"/>
              </a:rPr>
              <a:t>сивуч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Большое промысловое значение имеют: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7"/>
              </a:rPr>
              <a:t>рыб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8"/>
              </a:rPr>
              <a:t>краб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9"/>
              </a:rPr>
              <a:t>моллюс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0"/>
              </a:rPr>
              <a:t>кальмар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1"/>
              </a:rPr>
              <a:t>ракообразны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2"/>
              </a:rPr>
              <a:t>трепанг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3"/>
              </a:rPr>
              <a:t>морские огурц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4"/>
              </a:rPr>
              <a:t>морские еж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5"/>
              </a:rPr>
              <a:t>морская капуст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6"/>
              </a:rPr>
              <a:t>кит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Моря, омывающие берега Сахалина и Курилов, являются одним из наиболее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4" name="Picture 5" descr="180px-212_1264_Baklany_Shumshu"/>
          <p:cNvPicPr/>
          <p:nvPr/>
        </p:nvPicPr>
        <p:blipFill>
          <a:blip r:embed="rId27"/>
          <a:stretch/>
        </p:blipFill>
        <p:spPr>
          <a:xfrm>
            <a:off x="755640" y="2421000"/>
            <a:ext cx="26398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ДАЛЬНЕВОСТОЧНЫЙ МОРСКОЙ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биосферный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заповедник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альневосточный государственный морской заповедник был создан в соответсвии  24 марта 1978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Заповедник занимает часть акватории залива Петра Великого Японского моря, 12 небольших островов, а также участок материкового побережья и расположен на территории Приморского кра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8" name="Picture 7" descr="увеличить карту ООПТ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405160"/>
            <a:ext cx="367344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осатки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ивуч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лан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8" name="Picture 8" descr="СИВУЧ"/>
          <p:cNvPicPr/>
          <p:nvPr/>
        </p:nvPicPr>
        <p:blipFill>
          <a:blip r:embed="rId1"/>
          <a:stretch/>
        </p:blipFill>
        <p:spPr>
          <a:xfrm>
            <a:off x="611280" y="2708280"/>
            <a:ext cx="3809880" cy="3057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526"/>
          <p:cNvPicPr/>
          <p:nvPr/>
        </p:nvPicPr>
        <p:blipFill>
          <a:blip r:embed="rId2"/>
          <a:stretch/>
        </p:blipFill>
        <p:spPr>
          <a:xfrm>
            <a:off x="4799160" y="2492280"/>
            <a:ext cx="3367080" cy="3821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КОСАТКА"/>
          <p:cNvPicPr/>
          <p:nvPr/>
        </p:nvPicPr>
        <p:blipFill>
          <a:blip r:embed="rId3"/>
          <a:stretch/>
        </p:blipFill>
        <p:spPr>
          <a:xfrm>
            <a:off x="324000" y="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6880" y="369360"/>
            <a:ext cx="7961400" cy="978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амчатский заповедни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Камча́тка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 —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полуостров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в северо-восточной части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материка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Евразия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на территории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России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. Омывается с запада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хотским морем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, с востока —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Беринговым морем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Тихим океаном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олуостров вытянут с северо-востока на юго-запад на 1200 км. Соединяется с материком узким (до 93 км)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перешейком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 — Парапольским долом. Наибольшая ширина (до 440 км) — на широте мыса Кроноцкий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Общая площадь полуострова — 472,3 тыс. км²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65160" y="1268280"/>
            <a:ext cx="40388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опография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амчатк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4" name="Picture 17" descr="Топография Камчатки"/>
          <p:cNvPicPr/>
          <p:nvPr/>
        </p:nvPicPr>
        <p:blipFill>
          <a:blip r:embed="rId9"/>
          <a:stretch/>
        </p:blipFill>
        <p:spPr>
          <a:xfrm>
            <a:off x="5219640" y="1773360"/>
            <a:ext cx="285768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78920" y="620640"/>
            <a:ext cx="424836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Вулканы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являются главными достопримечательностями полуострова Камчатка. Изображения вулканов фигурируют на флаге и гербе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Камчатского кра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(ранее —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Камчатской област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) и города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Петропавловск-Камчатски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а также на большинстве сувениров, производящихся на Камчатке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105520" y="549360"/>
            <a:ext cx="403848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Вулканы Шивелуч, Вилючинский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7" name="Picture 14" descr="180px-Shiveluch"/>
          <p:cNvPicPr/>
          <p:nvPr/>
        </p:nvPicPr>
        <p:blipFill>
          <a:blip r:embed="rId5"/>
          <a:stretch/>
        </p:blipFill>
        <p:spPr>
          <a:xfrm>
            <a:off x="5686560" y="2367000"/>
            <a:ext cx="3206520" cy="2066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Вид на вулкан Вилючинская Сопка с северо-востока"/>
          <p:cNvPicPr/>
          <p:nvPr/>
        </p:nvPicPr>
        <p:blipFill>
          <a:blip r:embed="rId6"/>
          <a:stretch/>
        </p:blipFill>
        <p:spPr>
          <a:xfrm>
            <a:off x="4211640" y="4221000"/>
            <a:ext cx="345600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         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Животный ми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418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Фауну сухопутных млекопитающих составляют: камчатский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собол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горноста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выдр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заяц-беляк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ндатр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лисиц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лос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северный олен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снежный баран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рыс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полярный волк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росомах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ласк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и др. Фауне присущи некоторые черты островного характера: на Камчатке нет многих типичных для Восточной Сибири и Дальнего Востока таёжных животных, например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4"/>
              </a:rPr>
              <a:t>кабарг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5"/>
              </a:rPr>
              <a:t>дикуш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только на самом севере края (в Пенжинском районе) встречается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6"/>
              </a:rPr>
              <a:t>белка-летяг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сравнительно недавно через Парапольский дол и далее к югу проник якутский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7"/>
              </a:rPr>
              <a:t>бурундук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также, как и рысь в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8"/>
              </a:rPr>
              <a:t>30-е годы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9"/>
              </a:rPr>
              <a:t>XX век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 Из крупных хищных зверей лесной зоны самым заметным и самым известным видом был и остаётся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20"/>
              </a:rPr>
              <a:t>камчатский бурый медвед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Бурый камчатский медведь весной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2" name="Picture 7" descr="250px-Brown-bear-in-spring"/>
          <p:cNvPicPr/>
          <p:nvPr/>
        </p:nvPicPr>
        <p:blipFill>
          <a:blip r:embed="rId21"/>
          <a:stretch/>
        </p:blipFill>
        <p:spPr>
          <a:xfrm>
            <a:off x="4500720" y="2133720"/>
            <a:ext cx="3743280" cy="2516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БАРАН СНЕЖНЫЙ"/>
          <p:cNvPicPr/>
          <p:nvPr/>
        </p:nvPicPr>
        <p:blipFill>
          <a:blip r:embed="rId22"/>
          <a:stretch/>
        </p:blipFill>
        <p:spPr>
          <a:xfrm>
            <a:off x="4211640" y="4734000"/>
            <a:ext cx="2381400" cy="2124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1" descr="180px-Wolverine_on_rock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6732720" y="4941720"/>
            <a:ext cx="2160360" cy="14288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3" descr="Martes zibellina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179280" y="189000"/>
            <a:ext cx="26193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Растительный ми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стительный мир Камчатки насчитывает около 1200 видов сосудистых (высших) растений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з деревьев самая распространённая порода —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береза Эрмана, или каменна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образующая редкостойные леса по всему краю и доходящая на север до юга Корякского нагорь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Триллиум камчатски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9" name="Picture 7" descr="250px-Tril2"/>
          <p:cNvPicPr/>
          <p:nvPr/>
        </p:nvPicPr>
        <p:blipFill>
          <a:blip r:embed="rId2"/>
          <a:stretch/>
        </p:blipFill>
        <p:spPr>
          <a:xfrm>
            <a:off x="5148360" y="1844640"/>
            <a:ext cx="2757240" cy="3673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Берёза Эрман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27640" y="4581360"/>
            <a:ext cx="261936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амчат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Доли́на ге́йзеров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— это одно из наиболее крупных гейзерных полей мира, и единственное в Евразии. Долина Гейзеров расположена на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Камчатке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в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Кроноцком государственном биосферном заповеднике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3" name="Picture 11" descr="гейзеры"/>
          <p:cNvPicPr/>
          <p:nvPr/>
        </p:nvPicPr>
        <p:blipFill>
          <a:blip r:embed="rId3"/>
          <a:stretch/>
        </p:blipFill>
        <p:spPr>
          <a:xfrm>
            <a:off x="4211640" y="3573360"/>
            <a:ext cx="4680000" cy="31370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3" descr="Камчатский край на карте России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3280" y="1197000"/>
            <a:ext cx="33339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Географическое положение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69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У слияния рек Гейзерная и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Шумная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на территории около 2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км²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находится около 20 крупных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гейзеров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и множество источников, периодически выбрасывающих фонтаны почти кипящей воды (более 95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°С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) или горячего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пар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олина гейзеров —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вулканический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каньон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шириной всего около двух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километров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и длиной чуть более четырёх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настоящее время часть долины засыпана крупным оползне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8" name="Picture 7" descr="100px-Soviet_Union_stamp_1966_CPA_3449"/>
          <p:cNvPicPr/>
          <p:nvPr/>
        </p:nvPicPr>
        <p:blipFill>
          <a:blip r:embed="rId9"/>
          <a:stretch/>
        </p:blipFill>
        <p:spPr>
          <a:xfrm>
            <a:off x="6545160" y="1700280"/>
            <a:ext cx="1863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обыт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Тайфун Эльза 1981 год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1981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г. тайфун Эльза вызвал дожди, по причине которых уровень воды в реке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Гейзерно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поднялся на несколько метров. Грязевые потоки увлекали за собой по руслу трёхметровые валуны, разрушая всё на своём пути. Пострадали многие источники, включая знаменитый Малахитовый грот. Гейзер Большая Печка исчез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Сель 2007 год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3 июн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2007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года несколько мощных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селевых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потоков обрушились на долину, накрыв большую её часть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грязью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камням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перекрыв многие источники. Также образовалась естественная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дамб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в случае прорыва которой возможно образование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озер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которое покроет практически все источники слоем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воды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1" action="ppaction://hlinksldjump"/>
              </a:rPr>
              <a:t>[3]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Находившиеся в долине туристы и персонал были срочно эвакуированы, поэтому жертв удалось избежать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Государственный природный заповедник «Столбы»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— расположен на северо-западных отрогах Восточного Саяна, граничащих со Средне-Сибирским плоскогорьем.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Естественными рубежами охраняемой территории являются правые притоки р. Енисей: на северо-востоке — река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Базаих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на юге и юго-западе — реки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Ман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и Большая Слизневка. С северо-востока территория граничит с г. Красноярском. Основан заповедник в 1925 году по инициативе жителей города для сохранения природных комплексов вокруг живописных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сиенитовых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останцев — «столбов». В настоящее время его площадь - 47 154 га. Представлен к Списку World Heritage Фонда всемирного наследия ЮНЕСКО; дожидается своей очеред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Расположение</a:t>
            </a:r>
            <a:r>
              <a:rPr b="1" lang="ru-RU" sz="2800" spc="-1" strike="noStrike" u="sng">
                <a:solidFill>
                  <a:srgbClr val="eec85e"/>
                </a:solidFill>
                <a:uFillTx/>
                <a:latin typeface="Arial"/>
                <a:hlinkClick r:id="rId1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 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Arial"/>
                <a:hlinkClick r:id="rId2"/>
              </a:rPr>
              <a:t>Россия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Ближайший город</a:t>
            </a:r>
            <a:r>
              <a:rPr b="1" lang="ru-RU" sz="2800" spc="-1" strike="noStrike" u="sng">
                <a:solidFill>
                  <a:srgbClr val="eec85e"/>
                </a:solidFill>
                <a:uFillTx/>
                <a:latin typeface="Arial"/>
                <a:hlinkClick r:id="rId3"/>
              </a:rPr>
              <a:t>Красноярск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Площадь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47154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Arial"/>
                <a:hlinkClick r:id="rId4"/>
              </a:rPr>
              <a:t>га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Основан</a:t>
            </a:r>
            <a:r>
              <a:rPr b="1" lang="ru-RU" sz="2800" spc="-1" strike="noStrike" u="sng">
                <a:solidFill>
                  <a:srgbClr val="eec85e"/>
                </a:solidFill>
                <a:uFillTx/>
                <a:latin typeface="Arial"/>
                <a:hlinkClick r:id="rId5"/>
              </a:rPr>
              <a:t>1925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год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4" name="Picture 5" descr="Zapovednik Stolby Krasnojarskij Kraj 03.jpg"/>
          <p:cNvPicPr/>
          <p:nvPr/>
        </p:nvPicPr>
        <p:blipFill>
          <a:blip r:embed="rId6"/>
          <a:stretch/>
        </p:blipFill>
        <p:spPr>
          <a:xfrm>
            <a:off x="826920" y="19162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180px-Rock_in_Nature_Reserve_Stolby"/>
          <p:cNvPicPr/>
          <p:nvPr/>
        </p:nvPicPr>
        <p:blipFill>
          <a:blip r:embed="rId7"/>
          <a:stretch/>
        </p:blipFill>
        <p:spPr>
          <a:xfrm>
            <a:off x="6516720" y="184464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Clipboard02.jpg"/>
          <p:cNvPicPr/>
          <p:nvPr/>
        </p:nvPicPr>
        <p:blipFill>
          <a:blip r:embed="rId8"/>
          <a:stretch/>
        </p:blipFill>
        <p:spPr>
          <a:xfrm>
            <a:off x="3708360" y="4076640"/>
            <a:ext cx="2290680" cy="17175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1" descr="Zapovednik Stolby Krasnojarskij Kraj 05.jpg"/>
          <p:cNvPicPr/>
          <p:nvPr/>
        </p:nvPicPr>
        <p:blipFill>
          <a:blip r:embed="rId9"/>
          <a:stretch/>
        </p:blipFill>
        <p:spPr>
          <a:xfrm>
            <a:off x="4595760" y="1989000"/>
            <a:ext cx="1354320" cy="1800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3" descr="Zapovednik Stolby Krasnojarskij Kraj 15.jpg"/>
          <p:cNvPicPr/>
          <p:nvPr/>
        </p:nvPicPr>
        <p:blipFill>
          <a:blip r:embed="rId10"/>
          <a:stretch/>
        </p:blipFill>
        <p:spPr>
          <a:xfrm>
            <a:off x="1332000" y="4292640"/>
            <a:ext cx="1191960" cy="1584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5" descr="Zapovednik Stolby Krasnojarskij Kraj 01.jpg"/>
          <p:cNvPicPr/>
          <p:nvPr/>
        </p:nvPicPr>
        <p:blipFill>
          <a:blip r:embed="rId11"/>
          <a:stretch/>
        </p:blipFill>
        <p:spPr>
          <a:xfrm>
            <a:off x="6684840" y="4005360"/>
            <a:ext cx="13654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 морском заповеднике 11 больших и малых остров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а островах есть скалы, песчаные пляжи, лес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Picture 5" descr="m2"/>
          <p:cNvPicPr/>
          <p:nvPr/>
        </p:nvPicPr>
        <p:blipFill>
          <a:blip r:embed="rId1"/>
          <a:stretch/>
        </p:blipFill>
        <p:spPr>
          <a:xfrm>
            <a:off x="1258920" y="3141720"/>
            <a:ext cx="2800440" cy="3056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m3"/>
          <p:cNvPicPr/>
          <p:nvPr/>
        </p:nvPicPr>
        <p:blipFill>
          <a:blip r:embed="rId2"/>
          <a:stretch/>
        </p:blipFill>
        <p:spPr>
          <a:xfrm>
            <a:off x="6443640" y="907920"/>
            <a:ext cx="2305080" cy="2951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B3"/>
          <p:cNvPicPr/>
          <p:nvPr/>
        </p:nvPicPr>
        <p:blipFill>
          <a:blip r:embed="rId3"/>
          <a:stretch/>
        </p:blipFill>
        <p:spPr>
          <a:xfrm>
            <a:off x="4859280" y="4292640"/>
            <a:ext cx="307836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Кузнецкий Алатау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Государственный природный заповедник Кузнецкий Алатау создан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27 декабр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1989 год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Его общая площадь 412 900 га. Вокруг заповедника установлена охранная зона общей площадью 245 931 г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2" name="Picture 6" descr="250px-Kem-004"/>
          <p:cNvPicPr/>
          <p:nvPr/>
        </p:nvPicPr>
        <p:blipFill>
          <a:blip r:embed="rId3"/>
          <a:stretch/>
        </p:blipFill>
        <p:spPr>
          <a:xfrm>
            <a:off x="4716360" y="2406600"/>
            <a:ext cx="395928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Приволжская лесостепь (заповедник)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403848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Приволжская лесостеп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 — государственный природный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заповедник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расположен в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Пензенской област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в лесостепной зоне Среднего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Поволжь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Росси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 Заповедник создан в 1989 году для сохранения уникальных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степе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северного типа. Заповедник состоит из 5 участков, разбросанных по всей Пензенской и частично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Ульяновской област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на западных склонах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Приволжской возвышенност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общая площадь 8326 га.. Заповедник «Приволжская лесостепь» является природоохранным, научно-исследовательским и эколого-просветительским учреждением федерального значения, имеющим целью сохранение и изучение естественного хода природных процессов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5" name="Picture 6" descr="300px-Poperechenskaya_step"/>
          <p:cNvPicPr/>
          <p:nvPr/>
        </p:nvPicPr>
        <p:blipFill>
          <a:blip r:embed="rId8"/>
          <a:stretch/>
        </p:blipFill>
        <p:spPr>
          <a:xfrm>
            <a:off x="4643280" y="2349360"/>
            <a:ext cx="403236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Растительность</a:t>
            </a:r>
            <a:br>
              <a:rPr sz="4000"/>
            </a:br>
            <a:r>
              <a:rPr b="1" lang="ru-RU" sz="4000" spc="-1" strike="noStrike" u="sng">
                <a:solidFill>
                  <a:srgbClr val="eec85e"/>
                </a:solidFill>
                <a:uFillTx/>
                <a:latin typeface="Arial"/>
                <a:hlinkClick r:id="rId1"/>
              </a:rPr>
              <a:t> 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Флора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заповедника чрезвычайно разнообразна. В настоящее время на его территории выявлено 825 видов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сосудистых растени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108 видов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лишайников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72 вида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мохообразных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и 119 видов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грибов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. Все вместе они составляют более 60 % флоры Пензенской области и около 40 % видового состава флоры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Среднего Поволжья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В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Красную книгу России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включены встречающиеся в заповеднике: 1 вид грибов (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мухомор шишковидны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) и 8 видов сосудистых растений. Это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рябчик русски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неоттианта клобучковая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пыльцеголовник красны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надбородник безлистны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и 4 вида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4"/>
              </a:rPr>
              <a:t>ковыле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: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5"/>
              </a:rPr>
              <a:t>опушеннолистны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6"/>
              </a:rPr>
              <a:t>перисты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7"/>
              </a:rPr>
              <a:t>красивейши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8"/>
              </a:rPr>
              <a:t>ковыль Залесского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. Ещё 53 вида сосудистых растений входит в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9"/>
              </a:rPr>
              <a:t>Красную книгу Пензенской области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2002 г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8" name="Picture 5" descr="Privolzhskaya lesostep 87.jpg"/>
          <p:cNvPicPr/>
          <p:nvPr/>
        </p:nvPicPr>
        <p:blipFill>
          <a:blip r:embed="rId20"/>
          <a:stretch/>
        </p:blipFill>
        <p:spPr>
          <a:xfrm>
            <a:off x="4762440" y="2374920"/>
            <a:ext cx="413064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одоёмы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 водоемах заповедника и его охранной зоны пока обнаружено 17 видов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рыб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: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гольян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голец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голавль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кунь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карась золотой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плотв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вьюн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налим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щук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язь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линь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лещ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4"/>
              </a:rPr>
              <a:t>верховк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5"/>
              </a:rPr>
              <a:t>уклейк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6"/>
              </a:rPr>
              <a:t>елец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7"/>
              </a:rPr>
              <a:t>пескарь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8"/>
              </a:rPr>
              <a:t>ерш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овыль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Красную книгу России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включены встречающиеся в заповеднике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4 вида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ковыле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: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опушеннолистны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перисты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красивейши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ковыль Залесского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53" name="Picture 7" descr="Privolzhskaya lesostep 51.jpg"/>
          <p:cNvPicPr/>
          <p:nvPr/>
        </p:nvPicPr>
        <p:blipFill>
          <a:blip r:embed="rId7"/>
          <a:stretch/>
        </p:blipFill>
        <p:spPr>
          <a:xfrm>
            <a:off x="4356000" y="2327400"/>
            <a:ext cx="4608720" cy="304164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14"/>
          <p:cNvSpPr/>
          <p:nvPr/>
        </p:nvSpPr>
        <p:spPr>
          <a:xfrm>
            <a:off x="539640" y="324648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Животный ми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сположение заповедника в лесостепной зоне определяет состав фауны, которая включает виды, типичные как для лесного зонального комплекса, так и для степного. К первым относятся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полевка европейская рыж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лесн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желтогорлая мыши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бурозубка обыкновенн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куница лесн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барсук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заяц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лось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кабан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. Постоянными компонентами степей являются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полёвка обыкновенн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слепыш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пеструшка степн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тушканчик большо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 другие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оловки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Солове́цкие острова́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(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Соловки́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) — архипелаг в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Белом мор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на входе в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Онежскую губу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Площадь — 347 км². Это крупнейший архипелаг беломорского бассейна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3" action="ppaction://hlinksldjump"/>
              </a:rPr>
              <a:t>[1]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Соловецкие острова состоят из шести крупных островов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Соловецкий (или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Большой Соловецкий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) остров — 246 км²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архипелаг входит также более 100 малых островков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59" name="Picture 7" descr="645px-White Sea map ru.png"/>
          <p:cNvPicPr/>
          <p:nvPr/>
        </p:nvPicPr>
        <p:blipFill>
          <a:blip r:embed="rId5"/>
          <a:stretch/>
        </p:blipFill>
        <p:spPr>
          <a:xfrm>
            <a:off x="4356000" y="1947960"/>
            <a:ext cx="4319640" cy="40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оловецкий государственный историко-архитектурный и природный музей-заповедник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61" name="Picture 4" descr="Вид на Большой Соловецкий остров"/>
          <p:cNvPicPr/>
          <p:nvPr/>
        </p:nvPicPr>
        <p:blipFill>
          <a:blip r:embed="rId1"/>
          <a:stretch/>
        </p:blipFill>
        <p:spPr>
          <a:xfrm>
            <a:off x="571680" y="243684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Соловецкий архипелаг, а также пятикилометровая акватория Белого моря включены в состав особо охраняемой территории — Федерального государственного учреждения «Соловецкий государственный историко-архитектурный и природный музей-заповедник». На Большом Соловецком острове находится зона строгой заповедности. Посещение этой зоны запрещено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Бо́льшая часть островов покрыта сосново-еловыми лесами, частично заболоченными. В прибрежной полосе наблюдаются богатые плантации водорослей, среди них ламинария, фукус, анфельция, которые имеют промышленное значени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артина М.В.Нестеров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«Соловки»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5" name="Picture 7" descr="180px-NesterovMV_Solovki1917LUG"/>
          <p:cNvPicPr/>
          <p:nvPr/>
        </p:nvPicPr>
        <p:blipFill>
          <a:blip r:embed="rId1"/>
          <a:stretch/>
        </p:blipFill>
        <p:spPr>
          <a:xfrm>
            <a:off x="4788000" y="2852640"/>
            <a:ext cx="374472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1187280" y="404640"/>
            <a:ext cx="704232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Ресурсы Интернет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ttp://wikipedia.or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ww.erudition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ww.altshuller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http://www.timeout.u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www.apspb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http://www.friends.nnov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http://travel.rin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http://elementy.ru/emai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http://gazeta.aif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Животный ми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 заповедник вернулся тюлень ларга, ранее совсем ушедший из Южного Приморья.В летнее время в заливе Петра Великого насчитывается до 80% всей популяци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4" descr="t4"/>
          <p:cNvPicPr/>
          <p:nvPr/>
        </p:nvPicPr>
        <p:blipFill>
          <a:blip r:embed="rId1"/>
          <a:stretch/>
        </p:blipFill>
        <p:spPr>
          <a:xfrm>
            <a:off x="4572000" y="2205000"/>
            <a:ext cx="4321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тиц более 350 видо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Уссурийский баклан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тенец серой цапл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Picture 4" descr="m1"/>
          <p:cNvPicPr/>
          <p:nvPr/>
        </p:nvPicPr>
        <p:blipFill>
          <a:blip r:embed="rId1"/>
          <a:stretch/>
        </p:blipFill>
        <p:spPr>
          <a:xfrm>
            <a:off x="971640" y="2205000"/>
            <a:ext cx="1912680" cy="2838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m8"/>
          <p:cNvPicPr/>
          <p:nvPr/>
        </p:nvPicPr>
        <p:blipFill>
          <a:blip r:embed="rId2"/>
          <a:stretch/>
        </p:blipFill>
        <p:spPr>
          <a:xfrm>
            <a:off x="3780000" y="2133720"/>
            <a:ext cx="2862000" cy="1895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m4"/>
          <p:cNvPicPr/>
          <p:nvPr/>
        </p:nvPicPr>
        <p:blipFill>
          <a:blip r:embed="rId3"/>
          <a:stretch/>
        </p:blipFill>
        <p:spPr>
          <a:xfrm>
            <a:off x="5796000" y="4149720"/>
            <a:ext cx="257472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Ханкайский заповедник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сположен в юго-западной части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Приморского кра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занимает площадь 39 289 га, включает акваторию озера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Ханк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и его побережье. Заповедник учрежден 28 декабря 1990 года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а территории заповедника обитают 334 вида птиц, из них 140 видов гнездится в настоящее время, 44 вида занесены в Красную книгу России и 12 видов — в Международную Красную книгу, наиболее редкие виды —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японски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даурский журавл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красноногий ибис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колпиц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и др. Численность птиц в пиковые сезоны миграции (апрель, октябрь) достигает 2 миллионов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тицы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Даурский журавль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олпица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Красноногий ибис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ли японский ибис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5" descr="ЖУРАВЛЬ ДАУРСКИЙ"/>
          <p:cNvPicPr/>
          <p:nvPr/>
        </p:nvPicPr>
        <p:blipFill>
          <a:blip r:embed="rId1"/>
          <a:stretch/>
        </p:blipFill>
        <p:spPr>
          <a:xfrm>
            <a:off x="1042920" y="2708280"/>
            <a:ext cx="2857680" cy="1866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Красноногий ибис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19640" y="3429000"/>
            <a:ext cx="2619360" cy="2390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Колпица обыкновенная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68360" y="4653000"/>
            <a:ext cx="261972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а территории произрастает 49 редких и исчезающих видов растений (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эвриала устрашающ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лотос Комарова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бразения Шребера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 др.)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Picture 12" descr="180px-Nelumbo_nucifera3"/>
          <p:cNvPicPr/>
          <p:nvPr/>
        </p:nvPicPr>
        <p:blipFill>
          <a:blip r:embed="rId4"/>
          <a:stretch/>
        </p:blipFill>
        <p:spPr>
          <a:xfrm>
            <a:off x="324000" y="260280"/>
            <a:ext cx="3527280" cy="3724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8" descr="Бразения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11280" y="2997360"/>
            <a:ext cx="261936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Эвриала устрашающая приморска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ем. Кувшинковые -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аходится под угрозой исчезновения, включена в список видов, требующих охраны (Редкие и исчезающие виды .... 1981)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6" name="Picture 5" descr="081"/>
          <p:cNvPicPr/>
          <p:nvPr/>
        </p:nvPicPr>
        <p:blipFill>
          <a:blip r:embed="rId1"/>
          <a:stretch/>
        </p:blipFill>
        <p:spPr>
          <a:xfrm>
            <a:off x="5292720" y="1341360"/>
            <a:ext cx="333360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11:00:21Z</dcterms:created>
  <dc:creator>Света</dc:creator>
  <dc:description/>
  <dc:language>en-US</dc:language>
  <cp:lastModifiedBy>Учитель</cp:lastModifiedBy>
  <dcterms:modified xsi:type="dcterms:W3CDTF">2013-05-06T16:54:14Z</dcterms:modified>
  <cp:revision>11</cp:revision>
  <dc:subject/>
  <dc:title>Заповедники России</dc:title>
</cp:coreProperties>
</file>